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0.png" ContentType="image/png"/>
  <Override PartName="/ppt/media/image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00709-F48F-4406-AE4B-B82D2B4AF7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F400F-AA0F-446E-B73A-B3801FC57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4E45B9A-4505-409A-9F60-E6B5A5C4C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9CA7C4-790E-46BB-8FEC-0C179904F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C7F8DD6-8278-4AC4-B566-60ED3D18A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1984027-07A8-4E15-8646-00719131D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670900D-4DC6-4566-977E-B6AE20D2E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D46D99C-8DE1-4F0C-A197-DABD9E9E4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08FA36-960F-4C49-A686-B77DA610E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F8E6E5C-D9AC-44B8-99AE-6E1BD8E9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1BE65AB-6F99-4FD2-AA43-96EC8FA0D5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B8CDD5-593E-4C56-AB14-8049AD3DDC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B0D36-8809-4A15-AF07-546E5A05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E482A1-A1FE-4947-BD60-540B569C8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3AF6AC-8FAB-4D85-AA2C-43F07D700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F13AF-57F2-434D-9907-78597A42A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509831-33B5-49C2-99AB-820D99BDF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565452-F833-41EE-9725-4415A1821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0DD8A4-613A-4191-BDDF-838A28F6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259BD6-861D-4E05-8805-CCDD7D69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FDA98-C54D-4D6B-A1D6-4E2831A4A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9014FF-8790-4ACC-B900-2BDAFF7F3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1A076B-95E2-45D0-B390-2BAC7E7B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234BD-C415-49B2-AC0E-5C3DE69765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E8EC6-3BC6-487A-AB10-4FE552AC46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C56977-7141-4FDE-BC7F-16E4E6D897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96AA29-49C2-4E5C-B99E-001093566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0275FA-9174-48D1-870F-6930D0D19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D03D52-7DB8-4396-9D6E-976E09A41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A6EF4A-9614-4006-8295-BDCCB3173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8B68FF-736E-46D5-91AA-066444944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14F8CE7-D5E6-4D0E-A359-54143CDEA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C8B384-A60F-40F5-BD6E-2D07CBB50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3BD10E-DB60-4963-BD29-0526628CD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03A515-5776-4B1F-932D-D08B7E4D9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DBA2D7-47ED-41CF-9475-0CF2F2C39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7CEF48-59A9-4C38-B581-BBA5293B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9132F0-6971-45D7-9FC8-F53090C19F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22ED0C-627E-4C6D-A2E0-EF5F88A8EA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D245BC-4EEF-43F3-8E60-E4782D568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927092-4BA1-434D-8133-F79060EBF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27744A-D144-427E-A926-CF09D2594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299151-A358-4936-BA5C-78F57F0DB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61B8B0-2EE8-4E81-9FA7-4478D3333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CD5728-6560-428D-BC35-82328B866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DAC5E6-FA45-41DF-A1DC-5105DC0C5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8F84FA-240F-43DA-8531-A1AD9C177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4F0E1D-7548-4E78-B9D5-081F76ABE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063E58-9D87-4C06-A143-1306E841A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B1851C-B4B2-42C8-9D2F-2F09CC82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790667-0A8F-413F-8052-3DBFB6D990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CCFFA1-1684-4E3C-982F-3E4C4AE9A4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3BA1CA-705B-41EA-9D04-15A11C18B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2F5F99-B445-4C9A-983D-D33DFD4CE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14465D-92A4-46D3-BEAE-F6E6472AC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CF8114-E2FA-4FD3-9393-E9C5C3AD7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8F5505-AD6D-45D3-8610-7EA24602A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42C0BA-352C-42AA-AC02-293261E23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5DF072-4791-4B08-90D3-80608AB3B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FA040B-5D9B-4ADD-94F6-66BBF385C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A6283B-287A-4D9C-A6B4-961599D35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3A2A8F-086F-4C41-B820-62309A532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A4C554-F835-4FEA-9091-B49EE7A6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527B27-9565-4ED1-8405-F74956C185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55288E-6A70-4BB1-B858-51FB1D800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859EBB-9827-4373-9E9A-DA682FD14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8BF7C2-5997-4BC0-8A69-9AD53CD06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AA4516-C307-41B4-89B6-71F9307AC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FF7831-927B-4666-9DA4-40DD2A977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350A11-E02A-4C5D-92A6-5DC43999B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39D022-CE1F-4E07-A781-469806EFE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C6E2E1-D150-4936-B2D7-0EED95A2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ED3466-A082-48B7-813F-5E665A79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46E6FF-8E4C-4995-8223-DBC7FC8AD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2F3B8C-59F5-4E19-AEE5-FE147A99E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F35FB7-B5C7-400D-A060-761060A37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E3131E-9077-45CA-84E7-4B8EC1AD4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D21A3B-D47F-4A07-93F1-8979DDFB3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18C089-24F6-4247-8EBC-61CAC1BA2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68B577-5427-4E40-83F6-809467A5E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2BE79D-806D-4B2F-B7DD-753A1AAF9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EFC4CC-339B-4E3B-9A2C-E8016CF82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E9909A-3268-46FA-8C88-84359BCE1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6DB734-904D-4A13-B47D-2B0B90EC6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E6925A-8239-4DC2-B5D6-ABEFE30E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4CE7A5-D6B5-4B70-9A12-50202798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E5F7A7-A376-492C-AD84-AFC1B825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1ACF53-8400-4D0E-B0E8-317036956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ECBA0A-0FDD-4351-ABC5-F21F33A47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CB3DEE-2962-4B7D-B206-46A530CFE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92D8BC-6396-4609-A1BB-378A676F5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3DD3D0-AAA0-4E5E-9966-FC18A7E6E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AE7AA7-3AD0-487E-82F7-66F4DFD8F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FEF0BA-74EE-479A-8F54-CFA771E56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204927-CE2F-4A3E-8A52-7FDB1F986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5E8854-E963-421B-A589-FE9DA5CCF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636E65-137A-4864-9DC8-961B89820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D7AB87-0058-4DF3-9649-209AE79E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957641-CDE5-4E7E-A34B-DFFD3AA9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A92428-1658-43F2-A21D-549D63D4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2F0EFC-B823-484D-B59D-F4DA9957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B89B17-579A-43CE-8D8F-F213C93E1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1931FD-A2F8-4779-9E3E-A60CC264F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228180-B29B-4B5B-BEF4-28563A380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A24683-5C21-4B07-81AE-3123175B8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166802-3B82-4A94-B62E-A8EE176FA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72C15A-3C5D-4E79-B79A-85D62C370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FF0A58-7465-4D89-8F79-33F228D5D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31C7D3-0BBC-4FF5-B21E-E4393151E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B409F4-3E0A-4FD3-92DC-7043CD148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75C3A1-0A21-4444-B8F9-760F5D2C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CAABE-FB36-416F-BBC1-ED600E14D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B830E6-6480-4B97-8236-DD04CE93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BE3A2D-7D2A-402E-B8E8-FA7D510E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D574AF-86D5-4FD1-A614-5CFF5ACE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2C258E-32E8-4D28-B18F-25A3893B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D55BC1-5B3B-4004-B1D8-CF48E9A69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B5D0BE-65AE-4B0A-8037-611C47936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87AA51-286B-47F6-8300-E3B8D1654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84C4D6-D61C-4791-B8C7-9D6CEC29E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133B5D-BEBA-49D1-99C9-8F3F889AD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8BAC97-2D34-4E8F-A60F-5EB416FB4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715667-51BF-456D-BF57-AAF2DCC5E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B6CDFE-D509-452E-9FB3-0BDFA30E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31552D-6F7B-440C-99C6-25494ACBC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5ADC76-B7B3-474A-91D2-CE4B4024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B72D81-B3A6-4AD6-B8E2-0853A913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62D530-DA23-4BFD-B71A-5C9B0247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CC0144-85A3-4481-8048-3A140738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B04E6E-1B4A-42AD-B746-D263B3AC0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974829-E18B-421D-BE15-BB3C8F04C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A634A0-6926-4B4D-96B7-C735EA74D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6647D8-D4B6-4F96-AF72-78956CD67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130FC1-692B-4E33-97D6-7FE66416B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B23C22-7577-4C2A-AD04-FAA272C04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840D6D-1E9C-4C42-BA11-ABBACF6C2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296C2D-607E-4F37-8F39-09EFDF230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59ADCF-43F2-4EEB-92CA-553405617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B3F930-EE85-4FD5-9E32-87A4C7B3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1A0A67-4147-4AFA-A00F-BAB001CA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5BC575-894F-4961-92FA-3F9BCFC5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3F0311-08F1-4B50-B3D6-B6869A9FB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C6732D-8EEE-4247-BFC1-F68594336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54F1B7-B249-4953-BF2F-8D90EE329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205C9D-0D6D-472C-BDA0-CF0D8BB7B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719F0E-A328-42E0-A5F6-074FEF088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49BB36-44C0-47C6-8019-15400BB6F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D7171D-F6D6-4716-905A-B7199FCD8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780721-0534-402B-B3F4-8093303DF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7FE0B5-958D-452E-ABA8-86E497F14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49167F-EB7E-43E4-B212-D26704B57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A657FF-8A38-4B76-B75A-4F2CAD6E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58F2D3-3A11-4602-8CF2-8163C003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9196D2-ADB8-45E7-BA84-43FEAB5A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A72ADD-7C50-462E-9264-ABA69C559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A8EBF0-167D-4F56-AA79-A626005EB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C7B01B-FC4D-4CCE-ABE2-6593C8875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232808-0A62-47A0-9CDF-B391B0834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751802-879F-42DC-AD82-2960A91AC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578BC3-87D0-4C03-9C76-6F293A3A3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96BDC0-FF2E-4DA1-AAA3-D7F2AD8E8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E0236A-B4D7-4DF4-A347-1004500E4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A9AB1F-D4F0-4FF8-92F4-FD3ED9131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29026F-4B95-4AD5-B9B5-BEFFF2078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49E9B7-F114-4FDE-A963-09AF2C8E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0F4A76-B691-473C-BA18-1B8B32FA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14E0B9-F247-4BE3-9472-7A90582D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3FBB30-4CC6-4ADB-AF09-CCE1C5ED45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589532-52BD-44EA-82F0-5725D92D5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757F39-F448-4C8B-9C7E-D7A0ACBD0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76DF34-271C-4B79-BC3D-F40B0AE81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73F434-0BFD-4CA4-AAA9-909EA52BE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622DB8-5916-4C9A-9C8E-857A1D7D4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C7C433-A06E-4240-B682-ED73D33EB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21749C-1AA8-4106-9BB9-50BBD3306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FED856-894C-4B74-A67B-B0642D7EB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22902B-0630-43D6-866F-57D6443D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D6467F-10FA-4846-B540-391DBE47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5B2DA8-DD01-4DE9-BCBC-7FF043206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5B0139-D5D4-4996-AF54-C7780A99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B027BB-3CE4-4325-AD72-02204FC4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9BBB9A-4EDB-4125-AF12-7AE150A7C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C56C6F-BBC9-41E0-A1EB-B1EA3AE64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21637E-1466-41CA-A2BD-582BA89D8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1416F5-0AA9-43C7-B9B8-6CC735E72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2CD884-1319-4AAD-8729-00EB1E6AC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C50C1B-DBC0-402F-A6BF-6636959BA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391CAB-0CFB-4F20-9C54-F1712F7C1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DEC8BE-26B0-40AC-8170-0CA642DBC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8E1D2D-B087-4463-B312-FB5A76A87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76CC5D-EFB7-405A-AAF0-8A3B38286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ACE4F6-9115-4B28-BF93-4F615EDB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39F894-1A18-49F6-AE70-B8B4666A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B18860-9AD9-4223-9FC3-1299938B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4961BC-F9E1-4AD9-BAD8-C0F68B71C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F32173-37FC-43FC-A022-256E96896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D65C96-299A-4DAC-953F-AA84FA291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28BFA8-A0C0-4A3A-A87E-7B871F856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EF1B6B-8B07-44F7-9207-9588B10FF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7B83C8-9590-41E5-A40C-4C249F476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720204-609D-4225-A38D-4A591C4DC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053E48-A35E-4C53-A393-896577908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C757F0-C2B8-4697-A22B-14F0FD1FC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3EBAA4-E8EF-4246-AAD0-B8B8AE1F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819EB0-B82F-4EDC-B8CF-6AE4804A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BD851E-90F3-4111-8518-69EAE47D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584DD0-3D36-491C-BF79-28AA2BB6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8D3E6C-6B64-46A1-85CA-2C282486C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516222-B453-4424-B126-E7D4BC414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90C171-624F-4883-98F7-B067EEE29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B9068B-BA1C-453E-8572-56326EF49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15070-2159-4E25-8061-12BD6668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909E9E-E796-4544-91DE-F81AD36D9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776CC4-3139-41A2-843F-C0D753B30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831697-5E40-42A5-9A31-08C024605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EE296A-5502-40A9-9B7D-06A5BE435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A05C55-13DB-4B9A-A33A-C35E99963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0159C7-83A2-4FAA-97B2-7C6C7E4C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7C8C6E-00ED-4319-9EB3-24D81F4C94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E59D1-4ACF-43CE-827F-1BF9CE7ED9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0D55C-AF82-45AD-96BC-084537C89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C7E8C-88C8-4199-BBB8-6E6DC3854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FEE0A-F5DE-42EA-88FF-02BC3F58D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C6935-6252-48D6-8C17-7A9397957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7745A-BD23-4892-BCE2-35DA638CC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6B021-9B44-4406-98BB-E87868EA6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79D62-FB18-461B-90B0-42B86CAD1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E78D1-36F7-4CC0-878A-12DB4AE71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CD9A1-89C0-4173-BBD9-A3DBEBBDD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517CE-7C31-4AE9-B9D6-D6FCC74A2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7EB82-6368-4C17-93F7-2765DABD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82765-1E4F-43F1-B2D9-E54AE00CD1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2D6401-4298-4CA9-A398-0B0FA1DBA2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E6366-047B-4795-BE0C-836C9E9E2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546723-4DD1-43F6-9720-3943030F2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4F47A7-B201-4BA4-BD6B-3A84D2F40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6DEBFD-2B53-4025-A6AF-2CD9EBA7F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541DAA-CF20-4C45-A31F-774B2DB13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D9BBEA-FB04-4FC5-85C7-6E53DD100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519D8B-8190-459C-859F-C226FC004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5C773F-3F03-4E20-9D2A-0C6BCAA9F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7E183A-C7C5-4462-AFD3-5952F5E8D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44A66A-4E1A-477C-A9FD-18BDD6861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FE6656-DB75-4AE0-AB88-B13469D4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ECA66-15DF-4E57-8649-7EB7BA268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740A3A-AEF2-41B3-B732-997BF8BD45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9D49B97-FC59-4B10-A87B-D872A36E87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B1ED11-C5C6-4E0A-A1A2-C4431FD4E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A5E7C4-D7C2-43B7-924A-8D24544F1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9C4C9C-6020-4F5E-9977-4793F5B37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941EF7E-AB5C-44CF-8CEA-D335300C4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8CF544-EC89-43FE-B82B-93C80FE96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C5E4562-17E1-4563-8C8D-138ED5154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FDD2D9-C7FC-4183-BC2A-93FA6D33D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DE8CA4B-868F-4969-9F28-BC0513B98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42698-7143-4FF3-A756-EE0E9080E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E60BF1-FA59-47BE-B38B-89ED60898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CC3BDC-D1C8-4933-A8E0-BDF7227E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7D17B8-5FFC-42DD-A2B2-4800167B8F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D92B1-2C67-4DD8-8E49-8BDFF2F77D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BD9F9-C818-4156-946D-118B091A7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95E12-0F07-49AF-9542-B9A019863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D5228-6615-488F-9A9A-D9705A24E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332EA-374D-4294-A819-28BFD63FF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A2DDD-400F-4D20-8698-EDDD76A9A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BB791-D6C9-41CC-A7F2-9C7A80D1E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55110-E8A2-40E8-90A6-472D8772C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190D6-5802-4D48-9141-3B1F07850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F10D9-69B6-4D9C-B24E-B2C77869F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1661D-A87B-44E0-97BE-4EBBB6058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E4BE7-357E-430F-B859-0F4E4A7A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8D5C9-9ECA-4AF8-B886-D05D7F6967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0D2D24-7CA3-4E6B-A06D-BF8D928971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DE47A2-378F-4E0B-9F5B-6BE7EF6B9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891AEF-3519-4FC6-B77F-2B2C55562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AF3354-6B34-4E56-B929-32B8658D9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C6250A-A74B-463E-9322-585F730C5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6AD7F-2C51-433D-8CA0-793DDAF3F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BBC24C-BD02-4E63-9D69-419C360AC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923907-D8E0-4F3B-8C39-B6478D4AB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5EB51A-AE89-446C-9750-D98FC61B1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E79621-757F-457A-8535-45788982F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C60A3C-DA9A-43E8-8CAB-0A53A44EC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C7325F-83D5-4593-BD44-BE6D5E0E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64E358-DAA1-469F-B908-D9ABB9FB0F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BF82FF5-9C4F-4BDF-8721-6E7E1A0057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9121519-9F0D-4CD0-B163-50388F36E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4F42181-BA47-4C69-8205-405A623DF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969A4-3E1B-4D8B-A754-4D5DF5562EA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3CC2-9D40-4F57-AD00-2E4FCB2298C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10253-19EC-484B-96D7-AAF29DFF895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A3547-6EC2-4932-9DB8-8D5E23FD583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76809-AD4A-4271-AC42-A391D543223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C3F9D-2412-46C0-AC2B-5B2DD9E82F83}" type="slidenum"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57EE-5619-415E-A1CA-4FB73F966261}" type="slidenum"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491B6-4336-4F7F-99DA-7AD27BBAE81F}" type="slidenum"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6A2AE-1BF2-48DC-9971-70D99FD8433A}" type="slidenum"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D6F49-9EF8-498F-A657-1CA679FAA2AC}" type="slidenum"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73C24-6449-4A88-8F17-912777E8B4CD}" type="slidenum"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CF40A-5378-45BE-99CF-A31AF01DF595}" type="slidenum"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90E68-F4A1-4373-816F-8BDA31486B41}" type="slidenum"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F9FFC-BBCF-4119-BF54-D60530FC6B4F}" type="slidenum"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517B2-3632-4B68-A6E1-49180FB34262}" type="slidenum"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2ED91-A059-462B-956B-025251D2BF2D}" type="slidenum"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62D79-6BB4-4813-B0BD-3A632CDCE5AE}" type="slidenum"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255FD-C6E9-424E-8D2E-4A710782598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76FE1-1908-4810-BE5F-A0B6E88CE98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65639-1A0B-43EF-BD8D-9A4E0217DC3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31DE6-2E9F-4DE4-92E9-B29EA6AA18F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F5190-2FC2-4F98-B69D-1F22DEDF6F4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9AC7-EAEC-43F6-A238-AC7F3F35AF3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1C1E2-BFE4-4D88-B775-6ECF9984713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jpe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二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2735280" y="2773440"/>
            <a:ext cx="558720" cy="4633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281160" y="2655720"/>
            <a:ext cx="84438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</a:t>
            </a:r>
            <a:r>
              <a:rPr b="0" lang="en-US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 加 减 混 合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306160" y="2400480"/>
            <a:ext cx="6490080" cy="56880"/>
            <a:chOff x="2306160" y="2400480"/>
            <a:chExt cx="6490080" cy="56880"/>
          </a:xfrm>
        </p:grpSpPr>
        <p:sp>
          <p:nvSpPr>
            <p:cNvPr id="990" name="Line 10"/>
            <p:cNvSpPr/>
            <p:nvPr/>
          </p:nvSpPr>
          <p:spPr>
            <a:xfrm flipV="1">
              <a:off x="2306520" y="2400480"/>
              <a:ext cx="6489720" cy="5688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 rot="10800000">
              <a:off x="2306160" y="2400120"/>
              <a:ext cx="6489720" cy="5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307800" y="1816200"/>
            <a:ext cx="910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 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内的加法和减法（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"/>
          <p:cNvSpPr txBox="1"/>
          <p:nvPr/>
        </p:nvSpPr>
        <p:spPr>
          <a:xfrm>
            <a:off x="457200" y="1025640"/>
            <a:ext cx="822960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我会填“＞”“＜”或“＝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2     1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2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8     9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     4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     3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Rectangle 48"/>
          <p:cNvSpPr/>
          <p:nvPr/>
        </p:nvSpPr>
        <p:spPr>
          <a:xfrm>
            <a:off x="27720" y="522432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Oval 5586"/>
          <p:cNvSpPr/>
          <p:nvPr/>
        </p:nvSpPr>
        <p:spPr>
          <a:xfrm>
            <a:off x="2284560" y="2308320"/>
            <a:ext cx="453960" cy="293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Oval 5586"/>
          <p:cNvSpPr/>
          <p:nvPr/>
        </p:nvSpPr>
        <p:spPr>
          <a:xfrm>
            <a:off x="2284560" y="3165480"/>
            <a:ext cx="453960" cy="318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Oval 5586"/>
          <p:cNvSpPr/>
          <p:nvPr/>
        </p:nvSpPr>
        <p:spPr>
          <a:xfrm>
            <a:off x="2284560" y="4048200"/>
            <a:ext cx="453960" cy="34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Oval 5586"/>
          <p:cNvSpPr/>
          <p:nvPr/>
        </p:nvSpPr>
        <p:spPr>
          <a:xfrm>
            <a:off x="2284560" y="4888080"/>
            <a:ext cx="453960" cy="272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文本框 6"/>
          <p:cNvSpPr/>
          <p:nvPr/>
        </p:nvSpPr>
        <p:spPr>
          <a:xfrm>
            <a:off x="2351160" y="2203560"/>
            <a:ext cx="4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文本框 7"/>
          <p:cNvSpPr/>
          <p:nvPr/>
        </p:nvSpPr>
        <p:spPr>
          <a:xfrm>
            <a:off x="2293920" y="3095640"/>
            <a:ext cx="44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文本框 8"/>
          <p:cNvSpPr/>
          <p:nvPr/>
        </p:nvSpPr>
        <p:spPr>
          <a:xfrm>
            <a:off x="2282760" y="3954600"/>
            <a:ext cx="2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文本框 9"/>
          <p:cNvSpPr/>
          <p:nvPr/>
        </p:nvSpPr>
        <p:spPr>
          <a:xfrm>
            <a:off x="2276640" y="4795920"/>
            <a:ext cx="40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"/>
          <p:cNvSpPr txBox="1"/>
          <p:nvPr/>
        </p:nvSpPr>
        <p:spPr>
          <a:xfrm>
            <a:off x="457200" y="1195560"/>
            <a:ext cx="8229600" cy="49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、数学门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Rectangle 48"/>
          <p:cNvSpPr/>
          <p:nvPr/>
        </p:nvSpPr>
        <p:spPr>
          <a:xfrm>
            <a:off x="27720" y="522432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6" name="组合 37"/>
          <p:cNvGrpSpPr/>
          <p:nvPr/>
        </p:nvGrpSpPr>
        <p:grpSpPr>
          <a:xfrm>
            <a:off x="1617840" y="2373480"/>
            <a:ext cx="990360" cy="1376280"/>
            <a:chOff x="1617840" y="2373480"/>
            <a:chExt cx="990360" cy="1376280"/>
          </a:xfrm>
        </p:grpSpPr>
        <p:sp>
          <p:nvSpPr>
            <p:cNvPr id="1217" name="未知"/>
            <p:cNvSpPr/>
            <p:nvPr/>
          </p:nvSpPr>
          <p:spPr>
            <a:xfrm>
              <a:off x="1617840" y="2373480"/>
              <a:ext cx="990360" cy="1376280"/>
            </a:xfrm>
            <a:custGeom>
              <a:avLst/>
              <a:gdLst/>
              <a:ahLst/>
              <a:rect l="l" t="t" r="r" b="b"/>
              <a:pathLst>
                <a:path w="2999" h="3468">
                  <a:moveTo>
                    <a:pt x="2444" y="3444"/>
                  </a:moveTo>
                  <a:lnTo>
                    <a:pt x="2448" y="3431"/>
                  </a:lnTo>
                  <a:lnTo>
                    <a:pt x="2454" y="3418"/>
                  </a:lnTo>
                  <a:lnTo>
                    <a:pt x="2460" y="3404"/>
                  </a:lnTo>
                  <a:lnTo>
                    <a:pt x="2469" y="3392"/>
                  </a:lnTo>
                  <a:lnTo>
                    <a:pt x="2479" y="3378"/>
                  </a:lnTo>
                  <a:lnTo>
                    <a:pt x="2492" y="3365"/>
                  </a:lnTo>
                  <a:lnTo>
                    <a:pt x="2505" y="3353"/>
                  </a:lnTo>
                  <a:lnTo>
                    <a:pt x="2521" y="3340"/>
                  </a:lnTo>
                  <a:lnTo>
                    <a:pt x="2504" y="3317"/>
                  </a:lnTo>
                  <a:lnTo>
                    <a:pt x="2487" y="3294"/>
                  </a:lnTo>
                  <a:lnTo>
                    <a:pt x="2472" y="3271"/>
                  </a:lnTo>
                  <a:lnTo>
                    <a:pt x="2457" y="3248"/>
                  </a:lnTo>
                  <a:lnTo>
                    <a:pt x="2442" y="3224"/>
                  </a:lnTo>
                  <a:lnTo>
                    <a:pt x="2429" y="3200"/>
                  </a:lnTo>
                  <a:lnTo>
                    <a:pt x="2416" y="3176"/>
                  </a:lnTo>
                  <a:lnTo>
                    <a:pt x="2403" y="3152"/>
                  </a:lnTo>
                  <a:lnTo>
                    <a:pt x="2391" y="3127"/>
                  </a:lnTo>
                  <a:lnTo>
                    <a:pt x="2379" y="3102"/>
                  </a:lnTo>
                  <a:lnTo>
                    <a:pt x="2369" y="3077"/>
                  </a:lnTo>
                  <a:lnTo>
                    <a:pt x="2359" y="3052"/>
                  </a:lnTo>
                  <a:lnTo>
                    <a:pt x="2349" y="3026"/>
                  </a:lnTo>
                  <a:lnTo>
                    <a:pt x="2340" y="3001"/>
                  </a:lnTo>
                  <a:lnTo>
                    <a:pt x="2331" y="2975"/>
                  </a:lnTo>
                  <a:lnTo>
                    <a:pt x="2324" y="2949"/>
                  </a:lnTo>
                  <a:lnTo>
                    <a:pt x="2317" y="2924"/>
                  </a:lnTo>
                  <a:lnTo>
                    <a:pt x="2311" y="2901"/>
                  </a:lnTo>
                  <a:lnTo>
                    <a:pt x="2307" y="2878"/>
                  </a:lnTo>
                  <a:lnTo>
                    <a:pt x="2303" y="2858"/>
                  </a:lnTo>
                  <a:lnTo>
                    <a:pt x="2301" y="2837"/>
                  </a:lnTo>
                  <a:lnTo>
                    <a:pt x="2300" y="2818"/>
                  </a:lnTo>
                  <a:lnTo>
                    <a:pt x="2300" y="2801"/>
                  </a:lnTo>
                  <a:lnTo>
                    <a:pt x="2301" y="2784"/>
                  </a:lnTo>
                  <a:lnTo>
                    <a:pt x="2303" y="2768"/>
                  </a:lnTo>
                  <a:lnTo>
                    <a:pt x="2306" y="2753"/>
                  </a:lnTo>
                  <a:lnTo>
                    <a:pt x="2308" y="2746"/>
                  </a:lnTo>
                  <a:lnTo>
                    <a:pt x="2311" y="2740"/>
                  </a:lnTo>
                  <a:lnTo>
                    <a:pt x="2316" y="2728"/>
                  </a:lnTo>
                  <a:lnTo>
                    <a:pt x="2323" y="2716"/>
                  </a:lnTo>
                  <a:lnTo>
                    <a:pt x="2331" y="2706"/>
                  </a:lnTo>
                  <a:lnTo>
                    <a:pt x="2335" y="2701"/>
                  </a:lnTo>
                  <a:lnTo>
                    <a:pt x="2340" y="2697"/>
                  </a:lnTo>
                  <a:lnTo>
                    <a:pt x="2350" y="2689"/>
                  </a:lnTo>
                  <a:lnTo>
                    <a:pt x="2360" y="2682"/>
                  </a:lnTo>
                  <a:lnTo>
                    <a:pt x="2373" y="2676"/>
                  </a:lnTo>
                  <a:lnTo>
                    <a:pt x="2386" y="2671"/>
                  </a:lnTo>
                  <a:lnTo>
                    <a:pt x="2392" y="2669"/>
                  </a:lnTo>
                  <a:lnTo>
                    <a:pt x="2400" y="2667"/>
                  </a:lnTo>
                  <a:lnTo>
                    <a:pt x="2416" y="2664"/>
                  </a:lnTo>
                  <a:lnTo>
                    <a:pt x="2432" y="2663"/>
                  </a:lnTo>
                  <a:lnTo>
                    <a:pt x="2450" y="2662"/>
                  </a:lnTo>
                  <a:lnTo>
                    <a:pt x="2459" y="2662"/>
                  </a:lnTo>
                  <a:lnTo>
                    <a:pt x="2469" y="2663"/>
                  </a:lnTo>
                  <a:lnTo>
                    <a:pt x="2488" y="2665"/>
                  </a:lnTo>
                  <a:lnTo>
                    <a:pt x="2498" y="2666"/>
                  </a:lnTo>
                  <a:lnTo>
                    <a:pt x="2509" y="2667"/>
                  </a:lnTo>
                  <a:lnTo>
                    <a:pt x="2531" y="2671"/>
                  </a:lnTo>
                  <a:lnTo>
                    <a:pt x="2555" y="2676"/>
                  </a:lnTo>
                  <a:lnTo>
                    <a:pt x="2579" y="2682"/>
                  </a:lnTo>
                  <a:lnTo>
                    <a:pt x="2591" y="2686"/>
                  </a:lnTo>
                  <a:lnTo>
                    <a:pt x="2604" y="2690"/>
                  </a:lnTo>
                  <a:lnTo>
                    <a:pt x="2631" y="2698"/>
                  </a:lnTo>
                  <a:lnTo>
                    <a:pt x="2659" y="2707"/>
                  </a:lnTo>
                  <a:lnTo>
                    <a:pt x="2662" y="2726"/>
                  </a:lnTo>
                  <a:lnTo>
                    <a:pt x="2666" y="2744"/>
                  </a:lnTo>
                  <a:lnTo>
                    <a:pt x="2670" y="2762"/>
                  </a:lnTo>
                  <a:lnTo>
                    <a:pt x="2675" y="2778"/>
                  </a:lnTo>
                  <a:lnTo>
                    <a:pt x="2680" y="2794"/>
                  </a:lnTo>
                  <a:lnTo>
                    <a:pt x="2686" y="2809"/>
                  </a:lnTo>
                  <a:lnTo>
                    <a:pt x="2692" y="2823"/>
                  </a:lnTo>
                  <a:lnTo>
                    <a:pt x="2699" y="2837"/>
                  </a:lnTo>
                  <a:lnTo>
                    <a:pt x="2706" y="2850"/>
                  </a:lnTo>
                  <a:lnTo>
                    <a:pt x="2714" y="2862"/>
                  </a:lnTo>
                  <a:lnTo>
                    <a:pt x="2722" y="2873"/>
                  </a:lnTo>
                  <a:lnTo>
                    <a:pt x="2731" y="2883"/>
                  </a:lnTo>
                  <a:lnTo>
                    <a:pt x="2739" y="2893"/>
                  </a:lnTo>
                  <a:lnTo>
                    <a:pt x="2749" y="2902"/>
                  </a:lnTo>
                  <a:lnTo>
                    <a:pt x="2759" y="2909"/>
                  </a:lnTo>
                  <a:lnTo>
                    <a:pt x="2770" y="2917"/>
                  </a:lnTo>
                  <a:lnTo>
                    <a:pt x="2780" y="2923"/>
                  </a:lnTo>
                  <a:lnTo>
                    <a:pt x="2791" y="2929"/>
                  </a:lnTo>
                  <a:lnTo>
                    <a:pt x="2803" y="2934"/>
                  </a:lnTo>
                  <a:lnTo>
                    <a:pt x="2816" y="2938"/>
                  </a:lnTo>
                  <a:lnTo>
                    <a:pt x="2828" y="2941"/>
                  </a:lnTo>
                  <a:lnTo>
                    <a:pt x="2842" y="2943"/>
                  </a:lnTo>
                  <a:lnTo>
                    <a:pt x="2855" y="2945"/>
                  </a:lnTo>
                  <a:lnTo>
                    <a:pt x="2870" y="2946"/>
                  </a:lnTo>
                  <a:lnTo>
                    <a:pt x="2884" y="2946"/>
                  </a:lnTo>
                  <a:lnTo>
                    <a:pt x="2899" y="2945"/>
                  </a:lnTo>
                  <a:lnTo>
                    <a:pt x="2914" y="2944"/>
                  </a:lnTo>
                  <a:lnTo>
                    <a:pt x="2931" y="2941"/>
                  </a:lnTo>
                  <a:lnTo>
                    <a:pt x="2947" y="2938"/>
                  </a:lnTo>
                  <a:lnTo>
                    <a:pt x="2964" y="2934"/>
                  </a:lnTo>
                  <a:lnTo>
                    <a:pt x="2981" y="2930"/>
                  </a:lnTo>
                  <a:lnTo>
                    <a:pt x="2999" y="2925"/>
                  </a:lnTo>
                  <a:lnTo>
                    <a:pt x="2999" y="0"/>
                  </a:lnTo>
                  <a:lnTo>
                    <a:pt x="0" y="0"/>
                  </a:lnTo>
                  <a:lnTo>
                    <a:pt x="0" y="3468"/>
                  </a:lnTo>
                  <a:lnTo>
                    <a:pt x="2416" y="3468"/>
                  </a:lnTo>
                </a:path>
              </a:pathLst>
            </a:custGeom>
            <a:noFill/>
            <a:ln w="28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文本框 12"/>
            <p:cNvSpPr/>
            <p:nvPr/>
          </p:nvSpPr>
          <p:spPr>
            <a:xfrm>
              <a:off x="1722960" y="2373480"/>
              <a:ext cx="64800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</a:rPr>
                <a:t>3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宋体"/>
                </a:rPr>
                <a:t>+2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</a:rPr>
                <a:t>6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宋体"/>
                </a:rPr>
                <a:t>-1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</a:rPr>
                <a:t>7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直接连接符 14"/>
            <p:cNvSpPr/>
            <p:nvPr/>
          </p:nvSpPr>
          <p:spPr>
            <a:xfrm>
              <a:off x="1671120" y="2960280"/>
              <a:ext cx="751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直接连接符 36"/>
            <p:cNvSpPr/>
            <p:nvPr/>
          </p:nvSpPr>
          <p:spPr>
            <a:xfrm>
              <a:off x="1671120" y="3429000"/>
              <a:ext cx="657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1" name="直接连接符 52"/>
          <p:cNvSpPr/>
          <p:nvPr/>
        </p:nvSpPr>
        <p:spPr>
          <a:xfrm>
            <a:off x="1260360" y="5611680"/>
            <a:ext cx="1789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2" name="组合 50"/>
          <p:cNvGrpSpPr/>
          <p:nvPr/>
        </p:nvGrpSpPr>
        <p:grpSpPr>
          <a:xfrm>
            <a:off x="4354560" y="2355840"/>
            <a:ext cx="990720" cy="1397160"/>
            <a:chOff x="4354560" y="2355840"/>
            <a:chExt cx="990720" cy="1397160"/>
          </a:xfrm>
        </p:grpSpPr>
        <p:sp>
          <p:nvSpPr>
            <p:cNvPr id="1223" name="未知"/>
            <p:cNvSpPr/>
            <p:nvPr/>
          </p:nvSpPr>
          <p:spPr>
            <a:xfrm>
              <a:off x="4354560" y="2365920"/>
              <a:ext cx="990720" cy="1387080"/>
            </a:xfrm>
            <a:custGeom>
              <a:avLst/>
              <a:gdLst/>
              <a:ahLst/>
              <a:rect l="l" t="t" r="r" b="b"/>
              <a:pathLst>
                <a:path w="2999" h="3468">
                  <a:moveTo>
                    <a:pt x="2444" y="3444"/>
                  </a:moveTo>
                  <a:lnTo>
                    <a:pt x="2448" y="3431"/>
                  </a:lnTo>
                  <a:lnTo>
                    <a:pt x="2454" y="3418"/>
                  </a:lnTo>
                  <a:lnTo>
                    <a:pt x="2460" y="3404"/>
                  </a:lnTo>
                  <a:lnTo>
                    <a:pt x="2469" y="3392"/>
                  </a:lnTo>
                  <a:lnTo>
                    <a:pt x="2479" y="3378"/>
                  </a:lnTo>
                  <a:lnTo>
                    <a:pt x="2492" y="3365"/>
                  </a:lnTo>
                  <a:lnTo>
                    <a:pt x="2505" y="3353"/>
                  </a:lnTo>
                  <a:lnTo>
                    <a:pt x="2521" y="3340"/>
                  </a:lnTo>
                  <a:lnTo>
                    <a:pt x="2504" y="3317"/>
                  </a:lnTo>
                  <a:lnTo>
                    <a:pt x="2487" y="3294"/>
                  </a:lnTo>
                  <a:lnTo>
                    <a:pt x="2472" y="3271"/>
                  </a:lnTo>
                  <a:lnTo>
                    <a:pt x="2457" y="3248"/>
                  </a:lnTo>
                  <a:lnTo>
                    <a:pt x="2442" y="3224"/>
                  </a:lnTo>
                  <a:lnTo>
                    <a:pt x="2429" y="3200"/>
                  </a:lnTo>
                  <a:lnTo>
                    <a:pt x="2416" y="3176"/>
                  </a:lnTo>
                  <a:lnTo>
                    <a:pt x="2403" y="3152"/>
                  </a:lnTo>
                  <a:lnTo>
                    <a:pt x="2391" y="3127"/>
                  </a:lnTo>
                  <a:lnTo>
                    <a:pt x="2379" y="3102"/>
                  </a:lnTo>
                  <a:lnTo>
                    <a:pt x="2369" y="3077"/>
                  </a:lnTo>
                  <a:lnTo>
                    <a:pt x="2359" y="3052"/>
                  </a:lnTo>
                  <a:lnTo>
                    <a:pt x="2349" y="3026"/>
                  </a:lnTo>
                  <a:lnTo>
                    <a:pt x="2340" y="3001"/>
                  </a:lnTo>
                  <a:lnTo>
                    <a:pt x="2331" y="2975"/>
                  </a:lnTo>
                  <a:lnTo>
                    <a:pt x="2324" y="2949"/>
                  </a:lnTo>
                  <a:lnTo>
                    <a:pt x="2317" y="2924"/>
                  </a:lnTo>
                  <a:lnTo>
                    <a:pt x="2311" y="2901"/>
                  </a:lnTo>
                  <a:lnTo>
                    <a:pt x="2307" y="2878"/>
                  </a:lnTo>
                  <a:lnTo>
                    <a:pt x="2303" y="2858"/>
                  </a:lnTo>
                  <a:lnTo>
                    <a:pt x="2301" y="2837"/>
                  </a:lnTo>
                  <a:lnTo>
                    <a:pt x="2300" y="2818"/>
                  </a:lnTo>
                  <a:lnTo>
                    <a:pt x="2300" y="2801"/>
                  </a:lnTo>
                  <a:lnTo>
                    <a:pt x="2301" y="2784"/>
                  </a:lnTo>
                  <a:lnTo>
                    <a:pt x="2303" y="2768"/>
                  </a:lnTo>
                  <a:lnTo>
                    <a:pt x="2306" y="2753"/>
                  </a:lnTo>
                  <a:lnTo>
                    <a:pt x="2308" y="2746"/>
                  </a:lnTo>
                  <a:lnTo>
                    <a:pt x="2311" y="2740"/>
                  </a:lnTo>
                  <a:lnTo>
                    <a:pt x="2316" y="2728"/>
                  </a:lnTo>
                  <a:lnTo>
                    <a:pt x="2323" y="2716"/>
                  </a:lnTo>
                  <a:lnTo>
                    <a:pt x="2331" y="2706"/>
                  </a:lnTo>
                  <a:lnTo>
                    <a:pt x="2335" y="2701"/>
                  </a:lnTo>
                  <a:lnTo>
                    <a:pt x="2340" y="2697"/>
                  </a:lnTo>
                  <a:lnTo>
                    <a:pt x="2350" y="2689"/>
                  </a:lnTo>
                  <a:lnTo>
                    <a:pt x="2360" y="2682"/>
                  </a:lnTo>
                  <a:lnTo>
                    <a:pt x="2373" y="2676"/>
                  </a:lnTo>
                  <a:lnTo>
                    <a:pt x="2386" y="2671"/>
                  </a:lnTo>
                  <a:lnTo>
                    <a:pt x="2392" y="2669"/>
                  </a:lnTo>
                  <a:lnTo>
                    <a:pt x="2400" y="2667"/>
                  </a:lnTo>
                  <a:lnTo>
                    <a:pt x="2416" y="2664"/>
                  </a:lnTo>
                  <a:lnTo>
                    <a:pt x="2432" y="2663"/>
                  </a:lnTo>
                  <a:lnTo>
                    <a:pt x="2450" y="2662"/>
                  </a:lnTo>
                  <a:lnTo>
                    <a:pt x="2459" y="2662"/>
                  </a:lnTo>
                  <a:lnTo>
                    <a:pt x="2469" y="2663"/>
                  </a:lnTo>
                  <a:lnTo>
                    <a:pt x="2488" y="2665"/>
                  </a:lnTo>
                  <a:lnTo>
                    <a:pt x="2498" y="2666"/>
                  </a:lnTo>
                  <a:lnTo>
                    <a:pt x="2509" y="2667"/>
                  </a:lnTo>
                  <a:lnTo>
                    <a:pt x="2531" y="2671"/>
                  </a:lnTo>
                  <a:lnTo>
                    <a:pt x="2555" y="2676"/>
                  </a:lnTo>
                  <a:lnTo>
                    <a:pt x="2579" y="2682"/>
                  </a:lnTo>
                  <a:lnTo>
                    <a:pt x="2591" y="2686"/>
                  </a:lnTo>
                  <a:lnTo>
                    <a:pt x="2604" y="2690"/>
                  </a:lnTo>
                  <a:lnTo>
                    <a:pt x="2631" y="2698"/>
                  </a:lnTo>
                  <a:lnTo>
                    <a:pt x="2659" y="2707"/>
                  </a:lnTo>
                  <a:lnTo>
                    <a:pt x="2662" y="2726"/>
                  </a:lnTo>
                  <a:lnTo>
                    <a:pt x="2666" y="2744"/>
                  </a:lnTo>
                  <a:lnTo>
                    <a:pt x="2670" y="2762"/>
                  </a:lnTo>
                  <a:lnTo>
                    <a:pt x="2675" y="2778"/>
                  </a:lnTo>
                  <a:lnTo>
                    <a:pt x="2680" y="2794"/>
                  </a:lnTo>
                  <a:lnTo>
                    <a:pt x="2686" y="2809"/>
                  </a:lnTo>
                  <a:lnTo>
                    <a:pt x="2692" y="2823"/>
                  </a:lnTo>
                  <a:lnTo>
                    <a:pt x="2699" y="2837"/>
                  </a:lnTo>
                  <a:lnTo>
                    <a:pt x="2706" y="2850"/>
                  </a:lnTo>
                  <a:lnTo>
                    <a:pt x="2714" y="2862"/>
                  </a:lnTo>
                  <a:lnTo>
                    <a:pt x="2722" y="2873"/>
                  </a:lnTo>
                  <a:lnTo>
                    <a:pt x="2731" y="2883"/>
                  </a:lnTo>
                  <a:lnTo>
                    <a:pt x="2739" y="2893"/>
                  </a:lnTo>
                  <a:lnTo>
                    <a:pt x="2749" y="2902"/>
                  </a:lnTo>
                  <a:lnTo>
                    <a:pt x="2759" y="2909"/>
                  </a:lnTo>
                  <a:lnTo>
                    <a:pt x="2770" y="2917"/>
                  </a:lnTo>
                  <a:lnTo>
                    <a:pt x="2780" y="2923"/>
                  </a:lnTo>
                  <a:lnTo>
                    <a:pt x="2791" y="2929"/>
                  </a:lnTo>
                  <a:lnTo>
                    <a:pt x="2803" y="2934"/>
                  </a:lnTo>
                  <a:lnTo>
                    <a:pt x="2816" y="2938"/>
                  </a:lnTo>
                  <a:lnTo>
                    <a:pt x="2828" y="2941"/>
                  </a:lnTo>
                  <a:lnTo>
                    <a:pt x="2842" y="2943"/>
                  </a:lnTo>
                  <a:lnTo>
                    <a:pt x="2855" y="2945"/>
                  </a:lnTo>
                  <a:lnTo>
                    <a:pt x="2870" y="2946"/>
                  </a:lnTo>
                  <a:lnTo>
                    <a:pt x="2884" y="2946"/>
                  </a:lnTo>
                  <a:lnTo>
                    <a:pt x="2899" y="2945"/>
                  </a:lnTo>
                  <a:lnTo>
                    <a:pt x="2914" y="2944"/>
                  </a:lnTo>
                  <a:lnTo>
                    <a:pt x="2931" y="2941"/>
                  </a:lnTo>
                  <a:lnTo>
                    <a:pt x="2947" y="2938"/>
                  </a:lnTo>
                  <a:lnTo>
                    <a:pt x="2964" y="2934"/>
                  </a:lnTo>
                  <a:lnTo>
                    <a:pt x="2981" y="2930"/>
                  </a:lnTo>
                  <a:lnTo>
                    <a:pt x="2999" y="2925"/>
                  </a:lnTo>
                  <a:lnTo>
                    <a:pt x="2999" y="0"/>
                  </a:lnTo>
                  <a:lnTo>
                    <a:pt x="0" y="0"/>
                  </a:lnTo>
                  <a:lnTo>
                    <a:pt x="0" y="3468"/>
                  </a:lnTo>
                  <a:lnTo>
                    <a:pt x="2416" y="3468"/>
                  </a:lnTo>
                </a:path>
              </a:pathLst>
            </a:custGeom>
            <a:noFill/>
            <a:ln w="28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文本框 45"/>
            <p:cNvSpPr/>
            <p:nvPr/>
          </p:nvSpPr>
          <p:spPr>
            <a:xfrm>
              <a:off x="4443840" y="2355840"/>
              <a:ext cx="81216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</a:rPr>
                <a:t>7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宋体"/>
                </a:rPr>
                <a:t>- 1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</a:rPr>
                <a:t>6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宋体"/>
                </a:rPr>
                <a:t>+ 1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</a:rPr>
                <a:t>8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直接连接符 47"/>
            <p:cNvSpPr/>
            <p:nvPr/>
          </p:nvSpPr>
          <p:spPr>
            <a:xfrm>
              <a:off x="4396320" y="2960280"/>
              <a:ext cx="778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直接连接符 49"/>
            <p:cNvSpPr/>
            <p:nvPr/>
          </p:nvSpPr>
          <p:spPr>
            <a:xfrm flipV="1">
              <a:off x="4354920" y="3429360"/>
              <a:ext cx="712080" cy="12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7" name="直接连接符 54"/>
          <p:cNvSpPr/>
          <p:nvPr/>
        </p:nvSpPr>
        <p:spPr>
          <a:xfrm>
            <a:off x="4194000" y="5629320"/>
            <a:ext cx="1797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8" name="组合 7"/>
          <p:cNvGrpSpPr/>
          <p:nvPr/>
        </p:nvGrpSpPr>
        <p:grpSpPr>
          <a:xfrm>
            <a:off x="4299120" y="3946680"/>
            <a:ext cx="1271520" cy="1627560"/>
            <a:chOff x="4299120" y="3946680"/>
            <a:chExt cx="1271520" cy="1627560"/>
          </a:xfrm>
        </p:grpSpPr>
        <p:sp>
          <p:nvSpPr>
            <p:cNvPr id="1229" name="文本框 10"/>
            <p:cNvSpPr/>
            <p:nvPr/>
          </p:nvSpPr>
          <p:spPr>
            <a:xfrm>
              <a:off x="4396320" y="3946680"/>
              <a:ext cx="11743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0" lang="en-US" sz="1600" spc="-1" strike="noStrike">
                  <a:solidFill>
                    <a:srgbClr val="ff0000"/>
                  </a:solidFill>
                  <a:latin typeface="宋体"/>
                </a:rPr>
                <a:t>7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宋体"/>
                </a:rPr>
                <a:t>-1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0" lang="en-US" sz="1600" spc="-1" strike="noStrike">
                  <a:solidFill>
                    <a:srgbClr val="ff0000"/>
                  </a:solidFill>
                  <a:latin typeface="宋体"/>
                </a:rPr>
                <a:t>5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宋体"/>
                </a:rPr>
                <a:t>+1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0" lang="en-US" sz="1600" spc="-1" strike="noStrike">
                  <a:solidFill>
                    <a:srgbClr val="ff0000"/>
                  </a:solidFill>
                  <a:latin typeface="宋体"/>
                </a:rPr>
                <a:t>7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直接连接符 12"/>
            <p:cNvSpPr/>
            <p:nvPr/>
          </p:nvSpPr>
          <p:spPr>
            <a:xfrm>
              <a:off x="4299120" y="4643640"/>
              <a:ext cx="823680" cy="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直接连接符 14"/>
            <p:cNvSpPr/>
            <p:nvPr/>
          </p:nvSpPr>
          <p:spPr>
            <a:xfrm>
              <a:off x="4396320" y="5233680"/>
              <a:ext cx="666360" cy="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组合 11"/>
          <p:cNvGrpSpPr/>
          <p:nvPr/>
        </p:nvGrpSpPr>
        <p:grpSpPr>
          <a:xfrm>
            <a:off x="1255680" y="3927600"/>
            <a:ext cx="1684440" cy="2211480"/>
            <a:chOff x="1255680" y="3927600"/>
            <a:chExt cx="1684440" cy="2211480"/>
          </a:xfrm>
        </p:grpSpPr>
        <p:sp>
          <p:nvSpPr>
            <p:cNvPr id="1233" name="文本框 10"/>
            <p:cNvSpPr/>
            <p:nvPr/>
          </p:nvSpPr>
          <p:spPr>
            <a:xfrm>
              <a:off x="1298880" y="3927600"/>
              <a:ext cx="1641240" cy="22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</a:t>
              </a:r>
              <a:r>
                <a:rPr b="0" lang="en-US" sz="1600" spc="-1" strike="noStrike">
                  <a:solidFill>
                    <a:srgbClr val="ff0000"/>
                  </a:solidFill>
                  <a:latin typeface="宋体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宋体"/>
                </a:rPr>
                <a:t>＋   </a:t>
              </a:r>
              <a:r>
                <a:rPr b="0" lang="en-US" sz="1600" spc="-1" strike="noStrike">
                  <a:solidFill>
                    <a:srgbClr val="ff0000"/>
                  </a:solidFill>
                  <a:latin typeface="宋体"/>
                </a:rPr>
                <a:t>25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宋体"/>
                </a:rPr>
                <a:t>     </a:t>
              </a:r>
              <a:r>
                <a:rPr b="0" lang="en-US" sz="1600" spc="-1" strike="noStrike">
                  <a:solidFill>
                    <a:srgbClr val="ff0000"/>
                  </a:solidFill>
                  <a:latin typeface="宋体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宋体"/>
                </a:rPr>
                <a:t>-    1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宋体"/>
                </a:rPr>
                <a:t>     </a:t>
              </a:r>
              <a:r>
                <a:rPr b="0" lang="en-US" sz="1600" spc="-1" strike="noStrike">
                  <a:solidFill>
                    <a:srgbClr val="ff0000"/>
                  </a:solidFill>
                  <a:latin typeface="宋体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4" name="组合 10"/>
            <p:cNvGrpSpPr/>
            <p:nvPr/>
          </p:nvGrpSpPr>
          <p:grpSpPr>
            <a:xfrm>
              <a:off x="1255680" y="4642560"/>
              <a:ext cx="1166760" cy="590040"/>
              <a:chOff x="1255680" y="4642560"/>
              <a:chExt cx="1166760" cy="590040"/>
            </a:xfrm>
          </p:grpSpPr>
          <p:sp>
            <p:nvSpPr>
              <p:cNvPr id="1235" name="直接连接符 12"/>
              <p:cNvSpPr/>
              <p:nvPr/>
            </p:nvSpPr>
            <p:spPr>
              <a:xfrm>
                <a:off x="1271880" y="5232600"/>
                <a:ext cx="115056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直接连接符 12"/>
              <p:cNvSpPr/>
              <p:nvPr/>
            </p:nvSpPr>
            <p:spPr>
              <a:xfrm>
                <a:off x="1255680" y="4642560"/>
                <a:ext cx="115056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Rectangle 66"/>
          <p:cNvSpPr/>
          <p:nvPr/>
        </p:nvSpPr>
        <p:spPr>
          <a:xfrm>
            <a:off x="18720" y="522432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TextBox 28"/>
          <p:cNvSpPr/>
          <p:nvPr/>
        </p:nvSpPr>
        <p:spPr>
          <a:xfrm>
            <a:off x="2604960" y="2141640"/>
            <a:ext cx="410652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朋友们，你们在乘坐公共汽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程中发现了哪些与数学有关的问题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给同学听一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0" name="组合 2"/>
          <p:cNvGrpSpPr/>
          <p:nvPr/>
        </p:nvGrpSpPr>
        <p:grpSpPr>
          <a:xfrm>
            <a:off x="0" y="101520"/>
            <a:ext cx="5110200" cy="527040"/>
            <a:chOff x="0" y="101520"/>
            <a:chExt cx="5110200" cy="527040"/>
          </a:xfrm>
        </p:grpSpPr>
        <p:pic>
          <p:nvPicPr>
            <p:cNvPr id="1001" name="圆角矩形 3" descr=""/>
            <p:cNvPicPr/>
            <p:nvPr/>
          </p:nvPicPr>
          <p:blipFill>
            <a:blip r:embed="rId1"/>
            <a:stretch/>
          </p:blipFill>
          <p:spPr>
            <a:xfrm>
              <a:off x="253800" y="101520"/>
              <a:ext cx="485640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2" name="组合 4"/>
            <p:cNvGrpSpPr/>
            <p:nvPr/>
          </p:nvGrpSpPr>
          <p:grpSpPr>
            <a:xfrm>
              <a:off x="0" y="196560"/>
              <a:ext cx="683280" cy="274320"/>
              <a:chOff x="0" y="196560"/>
              <a:chExt cx="683280" cy="274320"/>
            </a:xfrm>
          </p:grpSpPr>
          <p:sp>
            <p:nvSpPr>
              <p:cNvPr id="1003" name="椭圆 18"/>
              <p:cNvSpPr/>
              <p:nvPr/>
            </p:nvSpPr>
            <p:spPr>
              <a:xfrm rot="16200000">
                <a:off x="280440" y="349560"/>
                <a:ext cx="106200" cy="136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443520" y="283320"/>
                <a:ext cx="239760" cy="7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5" name="椭圆 29"/>
              <p:cNvSpPr/>
              <p:nvPr/>
            </p:nvSpPr>
            <p:spPr>
              <a:xfrm rot="16200000">
                <a:off x="280440" y="213840"/>
                <a:ext cx="106200" cy="136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6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443520" y="206280"/>
                <a:ext cx="239760" cy="7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94480"/>
                <a:ext cx="605520" cy="68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275040"/>
                <a:ext cx="605520" cy="68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9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15640"/>
                <a:ext cx="605520" cy="68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0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605520" cy="680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73200" y="-1296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一、创设情境，引入新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13" name="圆角矩形 3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4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15" name="椭圆 18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16" name="椭圆 1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7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18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9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0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1" name="圆角矩形 2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2" name="圆角矩形 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-1296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ffff"/>
                </a:solidFill>
                <a:latin typeface="宋体"/>
              </a:rPr>
              <a:t>二、探究新知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Box 8"/>
          <p:cNvSpPr/>
          <p:nvPr/>
        </p:nvSpPr>
        <p:spPr>
          <a:xfrm>
            <a:off x="2087640" y="3800520"/>
            <a:ext cx="2566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算下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，车上有多少人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Box 9"/>
          <p:cNvSpPr/>
          <p:nvPr/>
        </p:nvSpPr>
        <p:spPr>
          <a:xfrm>
            <a:off x="3237840" y="4280040"/>
            <a:ext cx="1552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算现在有多少人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Box 20"/>
          <p:cNvSpPr/>
          <p:nvPr/>
        </p:nvSpPr>
        <p:spPr>
          <a:xfrm>
            <a:off x="5121360" y="3807000"/>
            <a:ext cx="17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6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5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TextBox 21"/>
          <p:cNvSpPr/>
          <p:nvPr/>
        </p:nvSpPr>
        <p:spPr>
          <a:xfrm>
            <a:off x="5121360" y="4307040"/>
            <a:ext cx="16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4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8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TextBox 22"/>
          <p:cNvSpPr/>
          <p:nvPr/>
        </p:nvSpPr>
        <p:spPr>
          <a:xfrm>
            <a:off x="6251400" y="3807000"/>
            <a:ext cx="13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42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（人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TextBox 23"/>
          <p:cNvSpPr/>
          <p:nvPr/>
        </p:nvSpPr>
        <p:spPr>
          <a:xfrm>
            <a:off x="6249960" y="4307040"/>
            <a:ext cx="14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70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（人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TextBox 33"/>
          <p:cNvSpPr/>
          <p:nvPr/>
        </p:nvSpPr>
        <p:spPr>
          <a:xfrm>
            <a:off x="3133080" y="5086440"/>
            <a:ext cx="1247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用综合算式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Text Box 10"/>
          <p:cNvSpPr/>
          <p:nvPr/>
        </p:nvSpPr>
        <p:spPr>
          <a:xfrm>
            <a:off x="4567320" y="511488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6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70 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2" name="Picture 25" descr="18"/>
          <p:cNvPicPr/>
          <p:nvPr/>
        </p:nvPicPr>
        <p:blipFill>
          <a:blip r:embed="rId8"/>
          <a:stretch/>
        </p:blipFill>
        <p:spPr>
          <a:xfrm>
            <a:off x="428760" y="1068480"/>
            <a:ext cx="5162400" cy="1711080"/>
          </a:xfrm>
          <a:prstGeom prst="rect">
            <a:avLst/>
          </a:prstGeom>
          <a:ln w="0">
            <a:noFill/>
          </a:ln>
        </p:spPr>
      </p:pic>
      <p:sp>
        <p:nvSpPr>
          <p:cNvPr id="1033" name="AutoShape 29"/>
          <p:cNvSpPr/>
          <p:nvPr/>
        </p:nvSpPr>
        <p:spPr>
          <a:xfrm>
            <a:off x="6372360" y="2306520"/>
            <a:ext cx="2303280" cy="891000"/>
          </a:xfrm>
          <a:prstGeom prst="wedgeRoundRectCallout">
            <a:avLst>
              <a:gd name="adj1" fmla="val 26745"/>
              <a:gd name="adj2" fmla="val 73666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是加减混合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算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AutoShape 28"/>
          <p:cNvSpPr/>
          <p:nvPr/>
        </p:nvSpPr>
        <p:spPr>
          <a:xfrm>
            <a:off x="6730920" y="2705040"/>
            <a:ext cx="1944720" cy="496440"/>
          </a:xfrm>
          <a:prstGeom prst="wedgeRoundRectCallout">
            <a:avLst>
              <a:gd name="adj1" fmla="val 22476"/>
              <a:gd name="adj2" fmla="val 92967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竖式怎么写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AutoShape 30"/>
          <p:cNvSpPr/>
          <p:nvPr/>
        </p:nvSpPr>
        <p:spPr>
          <a:xfrm>
            <a:off x="5796000" y="1992240"/>
            <a:ext cx="2952720" cy="496440"/>
          </a:xfrm>
          <a:prstGeom prst="wedgeRoundRectCallout">
            <a:avLst>
              <a:gd name="adj1" fmla="val 29458"/>
              <a:gd name="adj2" fmla="val 246013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一说图中告诉我们什么，要解决的问题是什么，再解答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Rectangle 38"/>
          <p:cNvSpPr/>
          <p:nvPr/>
        </p:nvSpPr>
        <p:spPr>
          <a:xfrm>
            <a:off x="18720" y="472140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7" name="图片 24" descr="2.tif"/>
          <p:cNvPicPr/>
          <p:nvPr/>
        </p:nvPicPr>
        <p:blipFill>
          <a:blip r:embed="rId9"/>
          <a:stretch/>
        </p:blipFill>
        <p:spPr>
          <a:xfrm>
            <a:off x="7715160" y="3568680"/>
            <a:ext cx="1235160" cy="1785960"/>
          </a:xfrm>
          <a:prstGeom prst="rect">
            <a:avLst/>
          </a:prstGeom>
          <a:ln w="0">
            <a:noFill/>
          </a:ln>
        </p:spPr>
      </p:pic>
      <p:pic>
        <p:nvPicPr>
          <p:cNvPr id="1038" name="图片 22" descr="1.jpg"/>
          <p:cNvPicPr/>
          <p:nvPr/>
        </p:nvPicPr>
        <p:blipFill>
          <a:blip r:embed="rId10"/>
          <a:stretch/>
        </p:blipFill>
        <p:spPr>
          <a:xfrm>
            <a:off x="142920" y="3854520"/>
            <a:ext cx="1305000" cy="1711080"/>
          </a:xfrm>
          <a:prstGeom prst="rect">
            <a:avLst/>
          </a:prstGeom>
          <a:ln w="0">
            <a:noFill/>
          </a:ln>
        </p:spPr>
      </p:pic>
      <p:pic>
        <p:nvPicPr>
          <p:cNvPr id="1039" name="图片 25" descr="3.gif"/>
          <p:cNvPicPr/>
          <p:nvPr/>
        </p:nvPicPr>
        <p:blipFill>
          <a:blip r:embed="rId11"/>
          <a:stretch/>
        </p:blipFill>
        <p:spPr>
          <a:xfrm>
            <a:off x="1428840" y="4568760"/>
            <a:ext cx="1434960" cy="1619280"/>
          </a:xfrm>
          <a:prstGeom prst="rect">
            <a:avLst/>
          </a:prstGeom>
          <a:ln w="0">
            <a:noFill/>
          </a:ln>
        </p:spPr>
      </p:pic>
      <p:sp>
        <p:nvSpPr>
          <p:cNvPr id="1040" name="TextBox 18"/>
          <p:cNvSpPr/>
          <p:nvPr/>
        </p:nvSpPr>
        <p:spPr>
          <a:xfrm>
            <a:off x="1201320" y="2782800"/>
            <a:ext cx="37648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车上原来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，现在有多少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八边形 7"/>
          <p:cNvSpPr/>
          <p:nvPr/>
        </p:nvSpPr>
        <p:spPr>
          <a:xfrm>
            <a:off x="600120" y="851040"/>
            <a:ext cx="523800" cy="51732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"/>
                            </p:stCondLst>
                            <p:childTnLst>
                              <p:par>
                                <p:cTn id="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"/>
                            </p:stCondLst>
                            <p:childTnLst>
                              <p:par>
                                <p:cTn id="3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Text Box 10"/>
          <p:cNvSpPr/>
          <p:nvPr/>
        </p:nvSpPr>
        <p:spPr>
          <a:xfrm>
            <a:off x="826920" y="3505320"/>
            <a:ext cx="30974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67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25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28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Text Box 83"/>
          <p:cNvSpPr/>
          <p:nvPr/>
        </p:nvSpPr>
        <p:spPr>
          <a:xfrm>
            <a:off x="2987640" y="3505320"/>
            <a:ext cx="21495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楷体_GB2312"/>
              </a:rPr>
              <a:t>70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楷体_GB2312"/>
              </a:rPr>
              <a:t>（人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 Box 35"/>
          <p:cNvSpPr/>
          <p:nvPr/>
        </p:nvSpPr>
        <p:spPr>
          <a:xfrm>
            <a:off x="4427640" y="4678200"/>
            <a:ext cx="6429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AutoShape 8"/>
          <p:cNvSpPr/>
          <p:nvPr/>
        </p:nvSpPr>
        <p:spPr>
          <a:xfrm>
            <a:off x="900000" y="4235400"/>
            <a:ext cx="3456000" cy="1523880"/>
          </a:xfrm>
          <a:prstGeom prst="roundRect">
            <a:avLst>
              <a:gd name="adj" fmla="val 9894"/>
            </a:avLst>
          </a:prstGeom>
          <a:solidFill>
            <a:srgbClr val="ffffff"/>
          </a:solidFill>
          <a:ln w="2844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Text Box 35"/>
          <p:cNvSpPr/>
          <p:nvPr/>
        </p:nvSpPr>
        <p:spPr>
          <a:xfrm>
            <a:off x="1417680" y="5141880"/>
            <a:ext cx="430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Text Box 36"/>
          <p:cNvSpPr/>
          <p:nvPr/>
        </p:nvSpPr>
        <p:spPr>
          <a:xfrm>
            <a:off x="1860480" y="5145120"/>
            <a:ext cx="430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Text Box 43"/>
          <p:cNvSpPr/>
          <p:nvPr/>
        </p:nvSpPr>
        <p:spPr>
          <a:xfrm>
            <a:off x="3114720" y="4229280"/>
            <a:ext cx="11509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4   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Text Box 46"/>
          <p:cNvSpPr/>
          <p:nvPr/>
        </p:nvSpPr>
        <p:spPr>
          <a:xfrm>
            <a:off x="3122640" y="5148360"/>
            <a:ext cx="430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Text Box 47"/>
          <p:cNvSpPr/>
          <p:nvPr/>
        </p:nvSpPr>
        <p:spPr>
          <a:xfrm>
            <a:off x="3565440" y="5138640"/>
            <a:ext cx="430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1" name="Group 69"/>
          <p:cNvGrpSpPr/>
          <p:nvPr/>
        </p:nvGrpSpPr>
        <p:grpSpPr>
          <a:xfrm>
            <a:off x="981000" y="4227480"/>
            <a:ext cx="1662120" cy="1409760"/>
            <a:chOff x="981000" y="4227480"/>
            <a:chExt cx="1662120" cy="1409760"/>
          </a:xfrm>
        </p:grpSpPr>
        <p:sp>
          <p:nvSpPr>
            <p:cNvPr id="1052" name="Text Box 32"/>
            <p:cNvSpPr/>
            <p:nvPr/>
          </p:nvSpPr>
          <p:spPr>
            <a:xfrm>
              <a:off x="1406520" y="4227480"/>
              <a:ext cx="11509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6   7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Text Box 33"/>
            <p:cNvSpPr/>
            <p:nvPr/>
          </p:nvSpPr>
          <p:spPr>
            <a:xfrm>
              <a:off x="981000" y="4600440"/>
              <a:ext cx="16621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－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   5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4" name=""/>
            <p:cNvGrpSpPr/>
            <p:nvPr/>
          </p:nvGrpSpPr>
          <p:grpSpPr>
            <a:xfrm>
              <a:off x="1085760" y="5143320"/>
              <a:ext cx="1214640" cy="360"/>
              <a:chOff x="1085760" y="5143320"/>
              <a:chExt cx="1214640" cy="360"/>
            </a:xfrm>
          </p:grpSpPr>
          <p:sp>
            <p:nvSpPr>
              <p:cNvPr id="1055" name="Line 34"/>
              <p:cNvSpPr/>
              <p:nvPr/>
            </p:nvSpPr>
            <p:spPr>
              <a:xfrm>
                <a:off x="1085760" y="5143320"/>
                <a:ext cx="1214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 txBox="1"/>
              <p:nvPr/>
            </p:nvSpPr>
            <p:spPr>
              <a:xfrm>
                <a:off x="1085760" y="5143320"/>
                <a:ext cx="1214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7" name="Rectangle 17"/>
            <p:cNvSpPr/>
            <p:nvPr/>
          </p:nvSpPr>
          <p:spPr>
            <a:xfrm>
              <a:off x="1862280" y="5280120"/>
              <a:ext cx="357120" cy="35712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Rectangle 17"/>
            <p:cNvSpPr/>
            <p:nvPr/>
          </p:nvSpPr>
          <p:spPr>
            <a:xfrm>
              <a:off x="1415880" y="5280120"/>
              <a:ext cx="357480" cy="35712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9" name="AutoShape 8"/>
          <p:cNvSpPr/>
          <p:nvPr/>
        </p:nvSpPr>
        <p:spPr>
          <a:xfrm>
            <a:off x="5164200" y="3786120"/>
            <a:ext cx="1712880" cy="2214720"/>
          </a:xfrm>
          <a:custGeom>
            <a:avLst/>
            <a:gdLst>
              <a:gd name="textAreaLeft" fmla="*/ 49320 w 1712880"/>
              <a:gd name="textAreaRight" fmla="*/ 1663560 w 1712880"/>
              <a:gd name="textAreaTop" fmla="*/ 49320 h 2214720"/>
              <a:gd name="textAreaBottom" fmla="*/ 2165400 h 2214720"/>
            </a:gdLst>
            <a:ahLst/>
            <a:rect l="textAreaLeft" t="textAreaTop" r="textAreaRight" b="textAreaBottom"/>
            <a:pathLst>
              <a:path w="21600" h="27927">
                <a:moveTo>
                  <a:pt x="2137" y="0"/>
                </a:moveTo>
                <a:arcTo wR="2137" hR="2137" stAng="16200000" swAng="-5400000"/>
                <a:lnTo>
                  <a:pt x="0" y="25790"/>
                </a:lnTo>
                <a:arcTo wR="2137" hR="2137" stAng="10800000" swAng="-5400000"/>
                <a:lnTo>
                  <a:pt x="19463" y="27927"/>
                </a:lnTo>
                <a:arcTo wR="2137" hR="2137" stAng="5400000" swAng="-5400000"/>
                <a:lnTo>
                  <a:pt x="21600" y="2137"/>
                </a:lnTo>
                <a:arcTo wR="2137" hR="2137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Text Box 75"/>
          <p:cNvSpPr/>
          <p:nvPr/>
        </p:nvSpPr>
        <p:spPr>
          <a:xfrm>
            <a:off x="5665680" y="4587840"/>
            <a:ext cx="430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Text Box 76"/>
          <p:cNvSpPr/>
          <p:nvPr/>
        </p:nvSpPr>
        <p:spPr>
          <a:xfrm>
            <a:off x="6113520" y="4587840"/>
            <a:ext cx="430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Text Box 81"/>
          <p:cNvSpPr/>
          <p:nvPr/>
        </p:nvSpPr>
        <p:spPr>
          <a:xfrm>
            <a:off x="5676840" y="5370480"/>
            <a:ext cx="430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 Box 82"/>
          <p:cNvSpPr/>
          <p:nvPr/>
        </p:nvSpPr>
        <p:spPr>
          <a:xfrm>
            <a:off x="6127920" y="5370480"/>
            <a:ext cx="430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4" name="Group 70"/>
          <p:cNvGrpSpPr/>
          <p:nvPr/>
        </p:nvGrpSpPr>
        <p:grpSpPr>
          <a:xfrm>
            <a:off x="2766960" y="4356000"/>
            <a:ext cx="1662120" cy="1281240"/>
            <a:chOff x="2766960" y="4356000"/>
            <a:chExt cx="1662120" cy="1281240"/>
          </a:xfrm>
        </p:grpSpPr>
        <p:sp>
          <p:nvSpPr>
            <p:cNvPr id="1065" name="Text Box 44"/>
            <p:cNvSpPr/>
            <p:nvPr/>
          </p:nvSpPr>
          <p:spPr>
            <a:xfrm>
              <a:off x="2766960" y="4599000"/>
              <a:ext cx="16621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   8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Rectangle 17"/>
            <p:cNvSpPr/>
            <p:nvPr/>
          </p:nvSpPr>
          <p:spPr>
            <a:xfrm>
              <a:off x="3571920" y="5280120"/>
              <a:ext cx="357120" cy="35712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Rectangle 17"/>
            <p:cNvSpPr/>
            <p:nvPr/>
          </p:nvSpPr>
          <p:spPr>
            <a:xfrm>
              <a:off x="3125880" y="5280120"/>
              <a:ext cx="357120" cy="35712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8" name=""/>
            <p:cNvGrpSpPr/>
            <p:nvPr/>
          </p:nvGrpSpPr>
          <p:grpSpPr>
            <a:xfrm>
              <a:off x="2847960" y="5143320"/>
              <a:ext cx="1214280" cy="360"/>
              <a:chOff x="2847960" y="5143320"/>
              <a:chExt cx="1214280" cy="360"/>
            </a:xfrm>
          </p:grpSpPr>
          <p:sp>
            <p:nvSpPr>
              <p:cNvPr id="1069" name="Line 34"/>
              <p:cNvSpPr/>
              <p:nvPr/>
            </p:nvSpPr>
            <p:spPr>
              <a:xfrm>
                <a:off x="2847960" y="5143320"/>
                <a:ext cx="1214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 txBox="1"/>
              <p:nvPr/>
            </p:nvSpPr>
            <p:spPr>
              <a:xfrm>
                <a:off x="2847960" y="5143320"/>
                <a:ext cx="1214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1" name="Rectangle 17"/>
            <p:cNvSpPr/>
            <p:nvPr/>
          </p:nvSpPr>
          <p:spPr>
            <a:xfrm>
              <a:off x="3571920" y="4356000"/>
              <a:ext cx="357120" cy="35712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Rectangle 17"/>
            <p:cNvSpPr/>
            <p:nvPr/>
          </p:nvSpPr>
          <p:spPr>
            <a:xfrm>
              <a:off x="3125880" y="4356000"/>
              <a:ext cx="357120" cy="35712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Group 92"/>
          <p:cNvGrpSpPr/>
          <p:nvPr/>
        </p:nvGrpSpPr>
        <p:grpSpPr>
          <a:xfrm>
            <a:off x="5311800" y="3762360"/>
            <a:ext cx="1711440" cy="2100240"/>
            <a:chOff x="5311800" y="3762360"/>
            <a:chExt cx="1711440" cy="2100240"/>
          </a:xfrm>
        </p:grpSpPr>
        <p:sp>
          <p:nvSpPr>
            <p:cNvPr id="1074" name="Text Box 72"/>
            <p:cNvSpPr/>
            <p:nvPr/>
          </p:nvSpPr>
          <p:spPr>
            <a:xfrm>
              <a:off x="5702400" y="3762360"/>
              <a:ext cx="11509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6   7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Text Box 73"/>
            <p:cNvSpPr/>
            <p:nvPr/>
          </p:nvSpPr>
          <p:spPr>
            <a:xfrm>
              <a:off x="5361120" y="4121280"/>
              <a:ext cx="16621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－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   5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6" name=""/>
            <p:cNvGrpSpPr/>
            <p:nvPr/>
          </p:nvGrpSpPr>
          <p:grpSpPr>
            <a:xfrm>
              <a:off x="5440320" y="4657680"/>
              <a:ext cx="1150920" cy="360"/>
              <a:chOff x="5440320" y="4657680"/>
              <a:chExt cx="1150920" cy="360"/>
            </a:xfrm>
          </p:grpSpPr>
          <p:sp>
            <p:nvSpPr>
              <p:cNvPr id="1077" name="Line 74"/>
              <p:cNvSpPr/>
              <p:nvPr/>
            </p:nvSpPr>
            <p:spPr>
              <a:xfrm>
                <a:off x="5440320" y="4657680"/>
                <a:ext cx="1150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 txBox="1"/>
              <p:nvPr/>
            </p:nvSpPr>
            <p:spPr>
              <a:xfrm>
                <a:off x="5440320" y="4657680"/>
                <a:ext cx="1150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9" name="Text Box 79"/>
            <p:cNvSpPr/>
            <p:nvPr/>
          </p:nvSpPr>
          <p:spPr>
            <a:xfrm>
              <a:off x="5311800" y="4902120"/>
              <a:ext cx="16621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＋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   8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"/>
            <p:cNvGrpSpPr/>
            <p:nvPr/>
          </p:nvGrpSpPr>
          <p:grpSpPr>
            <a:xfrm>
              <a:off x="5442120" y="5432400"/>
              <a:ext cx="1150920" cy="360"/>
              <a:chOff x="5442120" y="5432400"/>
              <a:chExt cx="1150920" cy="360"/>
            </a:xfrm>
          </p:grpSpPr>
          <p:sp>
            <p:nvSpPr>
              <p:cNvPr id="1081" name="Line 80"/>
              <p:cNvSpPr/>
              <p:nvPr/>
            </p:nvSpPr>
            <p:spPr>
              <a:xfrm>
                <a:off x="5442120" y="5432400"/>
                <a:ext cx="1150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 txBox="1"/>
              <p:nvPr/>
            </p:nvSpPr>
            <p:spPr>
              <a:xfrm>
                <a:off x="5442120" y="5432400"/>
                <a:ext cx="1150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3" name="Rectangle 17"/>
            <p:cNvSpPr/>
            <p:nvPr/>
          </p:nvSpPr>
          <p:spPr>
            <a:xfrm>
              <a:off x="6151680" y="4724280"/>
              <a:ext cx="357120" cy="35748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Rectangle 17"/>
            <p:cNvSpPr/>
            <p:nvPr/>
          </p:nvSpPr>
          <p:spPr>
            <a:xfrm>
              <a:off x="5705640" y="4724280"/>
              <a:ext cx="357120" cy="35748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Rectangle 17"/>
            <p:cNvSpPr/>
            <p:nvPr/>
          </p:nvSpPr>
          <p:spPr>
            <a:xfrm>
              <a:off x="6151680" y="5505480"/>
              <a:ext cx="357120" cy="35712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Rectangle 17"/>
            <p:cNvSpPr/>
            <p:nvPr/>
          </p:nvSpPr>
          <p:spPr>
            <a:xfrm>
              <a:off x="5705640" y="5505480"/>
              <a:ext cx="357120" cy="35712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7" name="Rectangle 94"/>
          <p:cNvSpPr/>
          <p:nvPr/>
        </p:nvSpPr>
        <p:spPr>
          <a:xfrm>
            <a:off x="18720" y="522432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8" name="Picture 25" descr="18"/>
          <p:cNvPicPr/>
          <p:nvPr/>
        </p:nvPicPr>
        <p:blipFill>
          <a:blip r:embed="rId1"/>
          <a:stretch/>
        </p:blipFill>
        <p:spPr>
          <a:xfrm>
            <a:off x="428760" y="858960"/>
            <a:ext cx="5162400" cy="1711080"/>
          </a:xfrm>
          <a:prstGeom prst="rect">
            <a:avLst/>
          </a:prstGeom>
          <a:ln w="0">
            <a:noFill/>
          </a:ln>
        </p:spPr>
      </p:pic>
      <p:sp>
        <p:nvSpPr>
          <p:cNvPr id="1089" name="TextBox 46"/>
          <p:cNvSpPr/>
          <p:nvPr/>
        </p:nvSpPr>
        <p:spPr>
          <a:xfrm>
            <a:off x="1201320" y="2573280"/>
            <a:ext cx="37648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车上原来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，现在有多少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"/>
                            </p:stCondLst>
                            <p:childTnLst>
                              <p:par>
                                <p:cTn id="4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9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"/>
                            </p:stCondLst>
                            <p:childTnLst>
                              <p:par>
                                <p:cTn id="9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Text Box 10"/>
          <p:cNvSpPr/>
          <p:nvPr/>
        </p:nvSpPr>
        <p:spPr>
          <a:xfrm>
            <a:off x="1114560" y="1000080"/>
            <a:ext cx="32400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72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47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16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Text Box 83"/>
          <p:cNvSpPr/>
          <p:nvPr/>
        </p:nvSpPr>
        <p:spPr>
          <a:xfrm>
            <a:off x="3597120" y="1000080"/>
            <a:ext cx="9874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楷体_GB2312"/>
              </a:rPr>
              <a:t>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AutoShape 8"/>
          <p:cNvSpPr/>
          <p:nvPr/>
        </p:nvSpPr>
        <p:spPr>
          <a:xfrm>
            <a:off x="900000" y="1730520"/>
            <a:ext cx="3456000" cy="1523880"/>
          </a:xfrm>
          <a:prstGeom prst="roundRect">
            <a:avLst>
              <a:gd name="adj" fmla="val 9894"/>
            </a:avLst>
          </a:prstGeom>
          <a:solidFill>
            <a:srgbClr val="ffffff"/>
          </a:solidFill>
          <a:ln w="2844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Text Box 35"/>
          <p:cNvSpPr/>
          <p:nvPr/>
        </p:nvSpPr>
        <p:spPr>
          <a:xfrm>
            <a:off x="1417680" y="2637000"/>
            <a:ext cx="430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Text Box 36"/>
          <p:cNvSpPr/>
          <p:nvPr/>
        </p:nvSpPr>
        <p:spPr>
          <a:xfrm>
            <a:off x="1860480" y="2639880"/>
            <a:ext cx="430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5" name="Group 55"/>
          <p:cNvGrpSpPr/>
          <p:nvPr/>
        </p:nvGrpSpPr>
        <p:grpSpPr>
          <a:xfrm>
            <a:off x="981000" y="1722600"/>
            <a:ext cx="1662120" cy="1409040"/>
            <a:chOff x="981000" y="1722600"/>
            <a:chExt cx="1662120" cy="1409040"/>
          </a:xfrm>
        </p:grpSpPr>
        <p:sp>
          <p:nvSpPr>
            <p:cNvPr id="1096" name="Text Box 32"/>
            <p:cNvSpPr/>
            <p:nvPr/>
          </p:nvSpPr>
          <p:spPr>
            <a:xfrm>
              <a:off x="1406520" y="1722600"/>
              <a:ext cx="11509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   7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Text Box 33"/>
            <p:cNvSpPr/>
            <p:nvPr/>
          </p:nvSpPr>
          <p:spPr>
            <a:xfrm>
              <a:off x="981000" y="2095200"/>
              <a:ext cx="16621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＋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   6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8" name=""/>
            <p:cNvGrpSpPr/>
            <p:nvPr/>
          </p:nvGrpSpPr>
          <p:grpSpPr>
            <a:xfrm>
              <a:off x="1085760" y="2638080"/>
              <a:ext cx="1214640" cy="360"/>
              <a:chOff x="1085760" y="2638080"/>
              <a:chExt cx="1214640" cy="360"/>
            </a:xfrm>
          </p:grpSpPr>
          <p:sp>
            <p:nvSpPr>
              <p:cNvPr id="1099" name="Line 34"/>
              <p:cNvSpPr/>
              <p:nvPr/>
            </p:nvSpPr>
            <p:spPr>
              <a:xfrm>
                <a:off x="1085760" y="2638080"/>
                <a:ext cx="1214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 txBox="1"/>
              <p:nvPr/>
            </p:nvSpPr>
            <p:spPr>
              <a:xfrm>
                <a:off x="1085760" y="2638080"/>
                <a:ext cx="1214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1" name="Rectangle 17"/>
            <p:cNvSpPr/>
            <p:nvPr/>
          </p:nvSpPr>
          <p:spPr>
            <a:xfrm>
              <a:off x="1862280" y="2774880"/>
              <a:ext cx="357120" cy="35676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Rectangle 17"/>
            <p:cNvSpPr/>
            <p:nvPr/>
          </p:nvSpPr>
          <p:spPr>
            <a:xfrm>
              <a:off x="1415880" y="2774880"/>
              <a:ext cx="357480" cy="35676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3" name="Rectangle 17"/>
          <p:cNvSpPr/>
          <p:nvPr/>
        </p:nvSpPr>
        <p:spPr>
          <a:xfrm>
            <a:off x="3125880" y="2774880"/>
            <a:ext cx="357120" cy="35712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4" name="Group 72"/>
          <p:cNvGrpSpPr/>
          <p:nvPr/>
        </p:nvGrpSpPr>
        <p:grpSpPr>
          <a:xfrm>
            <a:off x="2649600" y="1724040"/>
            <a:ext cx="1662120" cy="1407600"/>
            <a:chOff x="2649600" y="1724040"/>
            <a:chExt cx="1662120" cy="1407600"/>
          </a:xfrm>
        </p:grpSpPr>
        <p:sp>
          <p:nvSpPr>
            <p:cNvPr id="1105" name="Text Box 44"/>
            <p:cNvSpPr/>
            <p:nvPr/>
          </p:nvSpPr>
          <p:spPr>
            <a:xfrm>
              <a:off x="2649600" y="2093760"/>
              <a:ext cx="16621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－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Text Box 43"/>
            <p:cNvSpPr/>
            <p:nvPr/>
          </p:nvSpPr>
          <p:spPr>
            <a:xfrm>
              <a:off x="3114720" y="1724040"/>
              <a:ext cx="11509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   2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Rectangle 17"/>
            <p:cNvSpPr/>
            <p:nvPr/>
          </p:nvSpPr>
          <p:spPr>
            <a:xfrm>
              <a:off x="3571920" y="2774520"/>
              <a:ext cx="357120" cy="35712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8" name=""/>
            <p:cNvGrpSpPr/>
            <p:nvPr/>
          </p:nvGrpSpPr>
          <p:grpSpPr>
            <a:xfrm>
              <a:off x="2765520" y="2638080"/>
              <a:ext cx="1296720" cy="360"/>
              <a:chOff x="2765520" y="2638080"/>
              <a:chExt cx="1296720" cy="360"/>
            </a:xfrm>
          </p:grpSpPr>
          <p:sp>
            <p:nvSpPr>
              <p:cNvPr id="1109" name="Line 34"/>
              <p:cNvSpPr/>
              <p:nvPr/>
            </p:nvSpPr>
            <p:spPr>
              <a:xfrm>
                <a:off x="2765520" y="2638080"/>
                <a:ext cx="1296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 txBox="1"/>
              <p:nvPr/>
            </p:nvSpPr>
            <p:spPr>
              <a:xfrm>
                <a:off x="2765520" y="2638080"/>
                <a:ext cx="1296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1" name="Rectangle 17"/>
            <p:cNvSpPr/>
            <p:nvPr/>
          </p:nvSpPr>
          <p:spPr>
            <a:xfrm>
              <a:off x="3571920" y="2215800"/>
              <a:ext cx="357120" cy="35676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Rectangle 17"/>
            <p:cNvSpPr/>
            <p:nvPr/>
          </p:nvSpPr>
          <p:spPr>
            <a:xfrm>
              <a:off x="3125880" y="2215800"/>
              <a:ext cx="357120" cy="35676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3" name="Text Box 35"/>
          <p:cNvSpPr/>
          <p:nvPr/>
        </p:nvSpPr>
        <p:spPr>
          <a:xfrm>
            <a:off x="3117960" y="2089080"/>
            <a:ext cx="430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Text Box 36"/>
          <p:cNvSpPr/>
          <p:nvPr/>
        </p:nvSpPr>
        <p:spPr>
          <a:xfrm>
            <a:off x="3571920" y="2092320"/>
            <a:ext cx="430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Text Box 47"/>
          <p:cNvSpPr/>
          <p:nvPr/>
        </p:nvSpPr>
        <p:spPr>
          <a:xfrm>
            <a:off x="3575160" y="2633760"/>
            <a:ext cx="430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Text Box 5"/>
          <p:cNvSpPr/>
          <p:nvPr/>
        </p:nvSpPr>
        <p:spPr>
          <a:xfrm>
            <a:off x="4427640" y="452916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相同数位对齐，从个位算起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相加满十要进位</a:t>
            </a:r>
            <a:r>
              <a:rPr b="1" lang="en-US" sz="20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不够减时要退位</a:t>
            </a:r>
            <a:r>
              <a:rPr b="1" lang="en-US" sz="20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有时可以用简便写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7" name="Group 81"/>
          <p:cNvGrpSpPr/>
          <p:nvPr/>
        </p:nvGrpSpPr>
        <p:grpSpPr>
          <a:xfrm>
            <a:off x="4199040" y="3583080"/>
            <a:ext cx="4487400" cy="2344680"/>
            <a:chOff x="4199040" y="3583080"/>
            <a:chExt cx="4487400" cy="2344680"/>
          </a:xfrm>
        </p:grpSpPr>
        <p:sp>
          <p:nvSpPr>
            <p:cNvPr id="1118" name="Text Box 5"/>
            <p:cNvSpPr/>
            <p:nvPr/>
          </p:nvSpPr>
          <p:spPr>
            <a:xfrm>
              <a:off x="5056200" y="3913200"/>
              <a:ext cx="268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66ff"/>
                  </a:solidFill>
                  <a:latin typeface="楷体_GB2312"/>
                  <a:ea typeface="楷体_GB2312"/>
                </a:rPr>
                <a:t>在写竖式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9" name="Group 37"/>
            <p:cNvGrpSpPr/>
            <p:nvPr/>
          </p:nvGrpSpPr>
          <p:grpSpPr>
            <a:xfrm>
              <a:off x="4199040" y="3583080"/>
              <a:ext cx="4487400" cy="2344680"/>
              <a:chOff x="4199040" y="3583080"/>
              <a:chExt cx="4487400" cy="2344680"/>
            </a:xfrm>
          </p:grpSpPr>
          <p:sp>
            <p:nvSpPr>
              <p:cNvPr id="1120" name="AutoShape 38"/>
              <p:cNvSpPr/>
              <p:nvPr/>
            </p:nvSpPr>
            <p:spPr>
              <a:xfrm>
                <a:off x="4199040" y="3684600"/>
                <a:ext cx="4487400" cy="2243160"/>
              </a:xfrm>
              <a:prstGeom prst="roundRect">
                <a:avLst>
                  <a:gd name="adj" fmla="val 4690"/>
                </a:avLst>
              </a:prstGeom>
              <a:noFill/>
              <a:ln w="57240">
                <a:solidFill>
                  <a:srgbClr val="6767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AutoShape 39"/>
              <p:cNvSpPr/>
              <p:nvPr/>
            </p:nvSpPr>
            <p:spPr>
              <a:xfrm>
                <a:off x="4620600" y="3583080"/>
                <a:ext cx="3637080" cy="204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03076"/>
                  </a:gs>
                  <a:gs pos="50000">
                    <a:srgbClr val="6767ff"/>
                  </a:gs>
                  <a:gs pos="100000">
                    <a:srgbClr val="3030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AutoShape 40"/>
              <p:cNvSpPr/>
              <p:nvPr/>
            </p:nvSpPr>
            <p:spPr>
              <a:xfrm flipH="1">
                <a:off x="7915680" y="3633840"/>
                <a:ext cx="140040" cy="10152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AutoShape 41"/>
              <p:cNvSpPr/>
              <p:nvPr/>
            </p:nvSpPr>
            <p:spPr>
              <a:xfrm flipH="1">
                <a:off x="4821840" y="3633840"/>
                <a:ext cx="139320" cy="10152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4" name="Rectangle 82"/>
          <p:cNvSpPr/>
          <p:nvPr/>
        </p:nvSpPr>
        <p:spPr>
          <a:xfrm>
            <a:off x="18720" y="459576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5" name="组合 53"/>
          <p:cNvGrpSpPr/>
          <p:nvPr/>
        </p:nvGrpSpPr>
        <p:grpSpPr>
          <a:xfrm>
            <a:off x="5072040" y="1657440"/>
            <a:ext cx="3516480" cy="1643040"/>
            <a:chOff x="5072040" y="1657440"/>
            <a:chExt cx="3516480" cy="1643040"/>
          </a:xfrm>
        </p:grpSpPr>
        <p:sp>
          <p:nvSpPr>
            <p:cNvPr id="1126" name="AutoShape 30"/>
            <p:cNvSpPr/>
            <p:nvPr/>
          </p:nvSpPr>
          <p:spPr>
            <a:xfrm>
              <a:off x="5072040" y="1657440"/>
              <a:ext cx="2358000" cy="857160"/>
            </a:xfrm>
            <a:prstGeom prst="wedgeRoundRectCallout">
              <a:avLst>
                <a:gd name="adj1" fmla="val 29462"/>
                <a:gd name="adj2" fmla="val 6362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矩形 48"/>
            <p:cNvSpPr/>
            <p:nvPr/>
          </p:nvSpPr>
          <p:spPr>
            <a:xfrm>
              <a:off x="5512680" y="1657440"/>
              <a:ext cx="1400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800000"/>
                  </a:solidFill>
                  <a:latin typeface="楷体_GB2312"/>
                  <a:ea typeface="楷体_GB2312"/>
                </a:rPr>
                <a:t>有小括号的要先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800000"/>
                  </a:solidFill>
                  <a:latin typeface="楷体_GB2312"/>
                  <a:ea typeface="楷体_GB2312"/>
                </a:rPr>
                <a:t>小括号里面的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8" name="图片 24" descr="2.tif"/>
            <p:cNvPicPr/>
            <p:nvPr/>
          </p:nvPicPr>
          <p:blipFill>
            <a:blip r:embed="rId1"/>
            <a:stretch/>
          </p:blipFill>
          <p:spPr>
            <a:xfrm>
              <a:off x="7501680" y="1728720"/>
              <a:ext cx="1086840" cy="157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9" name="八边形 10"/>
          <p:cNvSpPr/>
          <p:nvPr/>
        </p:nvSpPr>
        <p:spPr>
          <a:xfrm>
            <a:off x="566640" y="770040"/>
            <a:ext cx="522360" cy="51732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44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"/>
                            </p:stCondLst>
                            <p:childTnLst>
                              <p:par>
                                <p:cTn id="13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"/>
                            </p:stCondLst>
                            <p:childTnLst>
                              <p:par>
                                <p:cTn id="14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"/>
                            </p:stCondLst>
                            <p:childTnLst>
                              <p:par>
                                <p:cTn id="15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"/>
                            </p:stCondLst>
                            <p:childTnLst>
                              <p:par>
                                <p:cTn id="16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0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31" name="圆角矩形 3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32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33" name="椭圆 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4" name="椭圆 2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5" name="椭圆 4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6" name="椭圆 5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7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8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9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0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141" name="Picture 43" descr="20"/>
          <p:cNvPicPr/>
          <p:nvPr/>
        </p:nvPicPr>
        <p:blipFill>
          <a:blip r:embed="rId8"/>
          <a:stretch/>
        </p:blipFill>
        <p:spPr>
          <a:xfrm>
            <a:off x="900000" y="1379520"/>
            <a:ext cx="7469280" cy="2557440"/>
          </a:xfrm>
          <a:prstGeom prst="rect">
            <a:avLst/>
          </a:prstGeom>
          <a:ln w="0">
            <a:noFill/>
          </a:ln>
        </p:spPr>
      </p:pic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三、巩固练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 Box 8"/>
          <p:cNvSpPr/>
          <p:nvPr/>
        </p:nvSpPr>
        <p:spPr>
          <a:xfrm>
            <a:off x="1554120" y="2384280"/>
            <a:ext cx="35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Text Box 8"/>
          <p:cNvSpPr/>
          <p:nvPr/>
        </p:nvSpPr>
        <p:spPr>
          <a:xfrm>
            <a:off x="1233360" y="2384280"/>
            <a:ext cx="35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Text Box 8"/>
          <p:cNvSpPr/>
          <p:nvPr/>
        </p:nvSpPr>
        <p:spPr>
          <a:xfrm>
            <a:off x="1554120" y="3367080"/>
            <a:ext cx="35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Text Box 8"/>
          <p:cNvSpPr/>
          <p:nvPr/>
        </p:nvSpPr>
        <p:spPr>
          <a:xfrm>
            <a:off x="1231920" y="3367080"/>
            <a:ext cx="35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Text Box 8"/>
          <p:cNvSpPr/>
          <p:nvPr/>
        </p:nvSpPr>
        <p:spPr>
          <a:xfrm>
            <a:off x="3062160" y="2384280"/>
            <a:ext cx="35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Text Box 8"/>
          <p:cNvSpPr/>
          <p:nvPr/>
        </p:nvSpPr>
        <p:spPr>
          <a:xfrm>
            <a:off x="2744640" y="2384280"/>
            <a:ext cx="35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Text Box 8"/>
          <p:cNvSpPr/>
          <p:nvPr/>
        </p:nvSpPr>
        <p:spPr>
          <a:xfrm>
            <a:off x="3060720" y="3367080"/>
            <a:ext cx="35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Text Box 8"/>
          <p:cNvSpPr/>
          <p:nvPr/>
        </p:nvSpPr>
        <p:spPr>
          <a:xfrm>
            <a:off x="2744640" y="3367080"/>
            <a:ext cx="35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Text Box 8"/>
          <p:cNvSpPr/>
          <p:nvPr/>
        </p:nvSpPr>
        <p:spPr>
          <a:xfrm>
            <a:off x="4651200" y="2384280"/>
            <a:ext cx="35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Text Box 8"/>
          <p:cNvSpPr/>
          <p:nvPr/>
        </p:nvSpPr>
        <p:spPr>
          <a:xfrm>
            <a:off x="4332240" y="2384280"/>
            <a:ext cx="35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Text Box 8"/>
          <p:cNvSpPr/>
          <p:nvPr/>
        </p:nvSpPr>
        <p:spPr>
          <a:xfrm>
            <a:off x="4651200" y="3367080"/>
            <a:ext cx="35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Text Box 8"/>
          <p:cNvSpPr/>
          <p:nvPr/>
        </p:nvSpPr>
        <p:spPr>
          <a:xfrm>
            <a:off x="4330440" y="3367080"/>
            <a:ext cx="35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Text Box 8"/>
          <p:cNvSpPr/>
          <p:nvPr/>
        </p:nvSpPr>
        <p:spPr>
          <a:xfrm>
            <a:off x="6230880" y="2384280"/>
            <a:ext cx="35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 Box 8"/>
          <p:cNvSpPr/>
          <p:nvPr/>
        </p:nvSpPr>
        <p:spPr>
          <a:xfrm>
            <a:off x="5911560" y="2384280"/>
            <a:ext cx="35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Text Box 8"/>
          <p:cNvSpPr/>
          <p:nvPr/>
        </p:nvSpPr>
        <p:spPr>
          <a:xfrm>
            <a:off x="6230880" y="3367080"/>
            <a:ext cx="35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Text Box 8"/>
          <p:cNvSpPr/>
          <p:nvPr/>
        </p:nvSpPr>
        <p:spPr>
          <a:xfrm>
            <a:off x="5911560" y="3367080"/>
            <a:ext cx="35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 Box 8"/>
          <p:cNvSpPr/>
          <p:nvPr/>
        </p:nvSpPr>
        <p:spPr>
          <a:xfrm>
            <a:off x="7773840" y="2384280"/>
            <a:ext cx="35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Text Box 8"/>
          <p:cNvSpPr/>
          <p:nvPr/>
        </p:nvSpPr>
        <p:spPr>
          <a:xfrm>
            <a:off x="7449840" y="2384280"/>
            <a:ext cx="35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Text Box 8"/>
          <p:cNvSpPr/>
          <p:nvPr/>
        </p:nvSpPr>
        <p:spPr>
          <a:xfrm>
            <a:off x="7772400" y="3367080"/>
            <a:ext cx="35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ext Box 8"/>
          <p:cNvSpPr/>
          <p:nvPr/>
        </p:nvSpPr>
        <p:spPr>
          <a:xfrm>
            <a:off x="7448400" y="3367080"/>
            <a:ext cx="35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Rectangle 48"/>
          <p:cNvSpPr/>
          <p:nvPr/>
        </p:nvSpPr>
        <p:spPr>
          <a:xfrm>
            <a:off x="18720" y="522432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65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66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67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8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9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0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1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2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3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4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75" name="Rectangle 64"/>
          <p:cNvSpPr/>
          <p:nvPr/>
        </p:nvSpPr>
        <p:spPr>
          <a:xfrm>
            <a:off x="365040" y="76320"/>
            <a:ext cx="29466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四、课堂小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TextBox 32"/>
          <p:cNvSpPr/>
          <p:nvPr/>
        </p:nvSpPr>
        <p:spPr>
          <a:xfrm>
            <a:off x="349200" y="861840"/>
            <a:ext cx="84488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计算加减混合算式时，要按照从左往右的顺序进行计算，列式时可以写出两个，也可以写成一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在计算含有小括号的加减混合运算的算式时，要先算小括号里面的，再算小括号外面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"/>
          <p:cNvSpPr txBox="1"/>
          <p:nvPr/>
        </p:nvSpPr>
        <p:spPr>
          <a:xfrm>
            <a:off x="425520" y="132372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算一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7= 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3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9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2=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8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6=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3= 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8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6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2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79" name="圆角矩形 3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80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81" name="椭圆 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2" name="椭圆 2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3" name="椭圆 4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4" name="椭圆 5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89" name="Rectangle 48"/>
          <p:cNvSpPr/>
          <p:nvPr/>
        </p:nvSpPr>
        <p:spPr>
          <a:xfrm>
            <a:off x="27720" y="522432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Text Box 8"/>
          <p:cNvSpPr/>
          <p:nvPr/>
        </p:nvSpPr>
        <p:spPr>
          <a:xfrm>
            <a:off x="2594880" y="2584440"/>
            <a:ext cx="53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8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Text Box 8"/>
          <p:cNvSpPr/>
          <p:nvPr/>
        </p:nvSpPr>
        <p:spPr>
          <a:xfrm>
            <a:off x="7148160" y="2571840"/>
            <a:ext cx="53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8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Text Box 8"/>
          <p:cNvSpPr/>
          <p:nvPr/>
        </p:nvSpPr>
        <p:spPr>
          <a:xfrm>
            <a:off x="2702160" y="3424320"/>
            <a:ext cx="53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9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Text Box 8"/>
          <p:cNvSpPr/>
          <p:nvPr/>
        </p:nvSpPr>
        <p:spPr>
          <a:xfrm>
            <a:off x="7082280" y="3416400"/>
            <a:ext cx="53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1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Text Box 8"/>
          <p:cNvSpPr/>
          <p:nvPr/>
        </p:nvSpPr>
        <p:spPr>
          <a:xfrm>
            <a:off x="2743200" y="4260960"/>
            <a:ext cx="35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Text Box 8"/>
          <p:cNvSpPr/>
          <p:nvPr/>
        </p:nvSpPr>
        <p:spPr>
          <a:xfrm>
            <a:off x="6998760" y="4276800"/>
            <a:ext cx="53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1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"/>
          <p:cNvSpPr txBox="1"/>
          <p:nvPr/>
        </p:nvSpPr>
        <p:spPr>
          <a:xfrm>
            <a:off x="457200" y="1248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算一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6=                       4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7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8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7=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7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4=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5=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7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3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Rectangle 48"/>
          <p:cNvSpPr/>
          <p:nvPr/>
        </p:nvSpPr>
        <p:spPr>
          <a:xfrm>
            <a:off x="27720" y="522432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文本框 12"/>
          <p:cNvSpPr/>
          <p:nvPr/>
        </p:nvSpPr>
        <p:spPr>
          <a:xfrm>
            <a:off x="2678040" y="1957320"/>
            <a:ext cx="586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文本框 13"/>
          <p:cNvSpPr/>
          <p:nvPr/>
        </p:nvSpPr>
        <p:spPr>
          <a:xfrm>
            <a:off x="7041240" y="1946160"/>
            <a:ext cx="586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5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文本框 15"/>
          <p:cNvSpPr/>
          <p:nvPr/>
        </p:nvSpPr>
        <p:spPr>
          <a:xfrm>
            <a:off x="2704320" y="2814480"/>
            <a:ext cx="586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文本框 16"/>
          <p:cNvSpPr/>
          <p:nvPr/>
        </p:nvSpPr>
        <p:spPr>
          <a:xfrm>
            <a:off x="7151760" y="2824200"/>
            <a:ext cx="586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文本框 17"/>
          <p:cNvSpPr/>
          <p:nvPr/>
        </p:nvSpPr>
        <p:spPr>
          <a:xfrm>
            <a:off x="2614680" y="3668760"/>
            <a:ext cx="586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文本框 18"/>
          <p:cNvSpPr/>
          <p:nvPr/>
        </p:nvSpPr>
        <p:spPr>
          <a:xfrm>
            <a:off x="7101720" y="3651120"/>
            <a:ext cx="7887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/>
  <dc:description/>
  <dc:language>en-US</dc:language>
  <cp:lastModifiedBy>万润仪器贸易公司</cp:lastModifiedBy>
  <dcterms:modified xsi:type="dcterms:W3CDTF">2020-08-21T00:28:56Z</dcterms:modified>
  <cp:revision>53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